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13.wmf" ContentType="image/x-wmf"/>
  <Override PartName="/ppt/media/EXPLODE.WAV" ContentType="audio/x-wav"/>
  <Override PartName="/ppt/media/image12.wmf" ContentType="image/x-wmf"/>
  <Override PartName="/ppt/media/image11.wmf" ContentType="image/x-wmf"/>
  <Override PartName="/ppt/media/bserie06.wav" ContentType="audio/x-wav"/>
  <Override PartName="/ppt/media/image8.wmf" ContentType="image/x-wmf"/>
  <Override PartName="/ppt/media/image9.wmf" ContentType="image/x-wmf"/>
  <Override PartName="/ppt/media/partyhorn.wav" ContentType="audio/x-wav"/>
  <Override PartName="/ppt/media/fastcar.wav" ContentType="audio/x-wav"/>
  <Override PartName="/ppt/media/fastsnaps.wav" ContentType="audio/x-wav"/>
  <Override PartName="/ppt/media/image15.png" ContentType="image/png"/>
  <Override PartName="/ppt/media/oldcarhorn.wav" ContentType="audio/x-wav"/>
  <Override PartName="/ppt/media/doorbl07.wav" ContentType="audio/x-wav"/>
  <Override PartName="/ppt/media/image10.wmf" ContentType="image/x-wmf"/>
  <Override PartName="/ppt/media/image14.gif" ContentType="image/gif"/>
  <Override PartName="/ppt/media/jetflyby2.wav" ContentType="audio/x-wav"/>
  <Override PartName="/ppt/media/GLASS.WAV" ContentType="audio/x-wav"/>
  <Override PartName="/ppt/media/WHOOSH.WAV" ContentType="audio/x-wav"/>
  <Override PartName="/ppt/media/image29.wmf" ContentType="image/x-wmf"/>
  <Override PartName="/ppt/media/highchime.wav" ContentType="audio/x-wav"/>
  <Override PartName="/ppt/media/GUNSHOT.WAV" ContentType="audio/x-wav"/>
  <Override PartName="/ppt/media/hzipup01.wav" ContentType="audio/x-wav"/>
  <Override PartName="/ppt/media/image24.wmf" ContentType="image/x-wmf"/>
  <Override PartName="/ppt/media/image5.wmf" ContentType="image/x-wmf"/>
  <Override PartName="/ppt/media/CHIMES.WAV" ContentType="audio/x-wav"/>
  <Override PartName="/ppt/media/image28.wmf" ContentType="image/x-wmf"/>
  <Override PartName="/ppt/media/image6.wmf" ContentType="image/x-wmf"/>
  <Override PartName="/ppt/media/zipby102.wav" ContentType="audio/x-wav"/>
  <Override PartName="/ppt/media/image20.wmf" ContentType="image/x-wmf"/>
  <Override PartName="/ppt/media/jetflyby.wav" ContentType="audio/x-wav"/>
  <Override PartName="/ppt/media/image18.wmf" ContentType="image/x-wmf"/>
  <Override PartName="/ppt/media/childrenlaugh.wav" ContentType="audio/x-wav"/>
  <Override PartName="/ppt/media/image19.wmf" ContentType="image/x-wmf"/>
  <Override PartName="/ppt/media/image21.wmf" ContentType="image/x-wmf"/>
  <Override PartName="/ppt/media/child%20yikes.wav" ContentType="audio/x-wav"/>
  <Override PartName="/ppt/media/image23.wmf" ContentType="image/x-wmf"/>
  <Override PartName="/ppt/media/image25.wmf" ContentType="image/x-wmf"/>
  <Override PartName="/ppt/media/image2.wmf" ContentType="image/x-wmf"/>
  <Override PartName="/ppt/media/image26.wmf" ContentType="image/x-wmf"/>
  <Override PartName="/ppt/media/image3.wmf" ContentType="image/x-wmf"/>
  <Override PartName="/ppt/media/image27.wmf" ContentType="image/x-wmf"/>
  <Override PartName="/ppt/media/image4.wmf" ContentType="image/x-wmf"/>
  <Override PartName="/ppt/media/bbeeps04.wav" ContentType="audio/x-wav"/>
  <Override PartName="/ppt/media/lzipup01.wav" ContentType="audio/x-wav"/>
  <Override PartName="/ppt/media/DRIVEBY.WAV" ContentType="audio/x-wav"/>
  <Override PartName="/ppt/media/image17.wmf" ContentType="image/x-wmf"/>
  <Override PartName="/ppt/media/image16.wmf" ContentType="image/x-wmf"/>
  <Override PartName="/ppt/media/zapbig0g.wav" ContentType="audio/x-wav"/>
  <Override PartName="/ppt/media/image22.wmf" ContentType="image/x-wmf"/>
  <Override PartName="/ppt/media/lionroar2.wav" ContentType="audio/x-wav"/>
  <Override PartName="/ppt/media/peopleooo.wav" ContentType="audio/x-wav"/>
  <Override PartName="/ppt/media/byipee04.wav" ContentType="audio/x-wav"/>
  <Override PartName="/ppt/media/image1.wmf" ContentType="image/x-wmf"/>
  <Override PartName="/ppt/media/shiphorn.wav" ContentType="audio/x-wav"/>
  <Override PartName="/ppt/media/children%20wow.wav" ContentType="audio/x-wav"/>
  <Override PartName="/ppt/media/image7.wmf" ContentType="image/x-wmf"/>
  <Override PartName="/ppt/media/caralarmoff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3AA4-11A2-4222-B58D-7680D23BB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0EFE-BCD2-4DFE-BC20-A18A870E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633C-4AB4-4494-A939-CF9241FA0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5239-85A6-437F-84A9-B96E9486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D8CE-ECFC-4AD0-8E35-5D03AAA8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04A8-BB55-4D15-BEC7-C01E0C51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561E-A85D-403B-9658-DA7235D6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9464-32A9-40A8-B62C-7A10359A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0FD9-A795-46E0-86A9-BB7504F5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C343-5821-40EE-85FF-6F35CC9B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90B7-3EB9-4221-BCD9-92904520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B2BA-FC75-4838-9A78-FB57F22D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5A6A-4B3C-4D70-A9A5-C8E2EA11F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WHOOSH.WAV"/><Relationship Id="rId4" Type="http://schemas.openxmlformats.org/officeDocument/2006/relationships/audio" Target="../media/GUNSHOT.WAV"/><Relationship Id="rId5" Type="http://schemas.openxmlformats.org/officeDocument/2006/relationships/audio" Target="../media/CHIMES.WAV"/><Relationship Id="rId6" Type="http://schemas.openxmlformats.org/officeDocument/2006/relationships/audio" Target="../media/zipby102.wav"/><Relationship Id="rId7" Type="http://schemas.openxmlformats.org/officeDocument/2006/relationships/audio" Target="../media/lionroar2.wav"/><Relationship Id="rId8" Type="http://schemas.openxmlformats.org/officeDocument/2006/relationships/audio" Target="../media/bbeeps04.wav"/><Relationship Id="rId9" Type="http://schemas.openxmlformats.org/officeDocument/2006/relationships/audio" Target="../media/lionroar2.wav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highchime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zipby102.wav"/><Relationship Id="rId20" Type="http://schemas.openxmlformats.org/officeDocument/2006/relationships/audio" Target="../media/zipby102.wav"/><Relationship Id="rId21" Type="http://schemas.openxmlformats.org/officeDocument/2006/relationships/audio" Target="../media/zipby102.wav"/><Relationship Id="rId22" Type="http://schemas.openxmlformats.org/officeDocument/2006/relationships/audio" Target="../media/bserie06.wav"/><Relationship Id="rId23" Type="http://schemas.openxmlformats.org/officeDocument/2006/relationships/audio" Target="../media/zipby102.wav"/><Relationship Id="rId24" Type="http://schemas.openxmlformats.org/officeDocument/2006/relationships/audio" Target="../media/zipby102.wav"/><Relationship Id="rId25" Type="http://schemas.openxmlformats.org/officeDocument/2006/relationships/audio" Target="../media/zipby102.wav"/><Relationship Id="rId26" Type="http://schemas.openxmlformats.org/officeDocument/2006/relationships/audio" Target="../media/bserie06.wav"/><Relationship Id="rId27" Type="http://schemas.openxmlformats.org/officeDocument/2006/relationships/audio" Target="../media/zipby102.wav"/><Relationship Id="rId28" Type="http://schemas.openxmlformats.org/officeDocument/2006/relationships/audio" Target="../media/zipby102.wav"/><Relationship Id="rId29" Type="http://schemas.openxmlformats.org/officeDocument/2006/relationships/audio" Target="../media/bserie06.wav"/><Relationship Id="rId30" Type="http://schemas.openxmlformats.org/officeDocument/2006/relationships/audio" Target="../media/byipee04.wav"/><Relationship Id="rId3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audio" Target="../media/zapbig0g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hzipup01.wav"/><Relationship Id="rId7" Type="http://schemas.openxmlformats.org/officeDocument/2006/relationships/audio" Target="../media/bbeeps04.wav"/><Relationship Id="rId8" Type="http://schemas.openxmlformats.org/officeDocument/2006/relationships/audio" Target="../media/partyhorn.wav"/><Relationship Id="rId9" Type="http://schemas.openxmlformats.org/officeDocument/2006/relationships/audio" Target="../media/partyhorn.wav"/><Relationship Id="rId10" Type="http://schemas.openxmlformats.org/officeDocument/2006/relationships/audio" Target="../media/partyhorn.wav"/><Relationship Id="rId11" Type="http://schemas.openxmlformats.org/officeDocument/2006/relationships/audio" Target="../media/byipee04.wav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audio" Target="../media/WHOOSH.WAV"/><Relationship Id="rId18" Type="http://schemas.openxmlformats.org/officeDocument/2006/relationships/audio" Target="../media/GUNSHOT.WAV"/><Relationship Id="rId19" Type="http://schemas.openxmlformats.org/officeDocument/2006/relationships/audio" Target="../media/children%20wow.wav"/><Relationship Id="rId20" Type="http://schemas.openxmlformats.org/officeDocument/2006/relationships/audio" Target="../media/highchime.wav"/><Relationship Id="rId21" Type="http://schemas.openxmlformats.org/officeDocument/2006/relationships/audio" Target="../media/child%20yikes.wav"/><Relationship Id="rId22" Type="http://schemas.openxmlformats.org/officeDocument/2006/relationships/audio" Target="../media/child%20yikes.wav"/><Relationship Id="rId23" Type="http://schemas.openxmlformats.org/officeDocument/2006/relationships/audio" Target="../media/highchime.wav"/><Relationship Id="rId24" Type="http://schemas.openxmlformats.org/officeDocument/2006/relationships/audio" Target="../media/bserie06.wav"/><Relationship Id="rId25" Type="http://schemas.openxmlformats.org/officeDocument/2006/relationships/audio" Target="../media/bserie06.wav"/><Relationship Id="rId26" Type="http://schemas.openxmlformats.org/officeDocument/2006/relationships/audio" Target="../media/bserie06.wav"/><Relationship Id="rId27" Type="http://schemas.openxmlformats.org/officeDocument/2006/relationships/audio" Target="../media/highchime.wav"/><Relationship Id="rId28" Type="http://schemas.openxmlformats.org/officeDocument/2006/relationships/audio" Target="../media/bserie06.wav"/><Relationship Id="rId29" Type="http://schemas.openxmlformats.org/officeDocument/2006/relationships/audio" Target="../media/bserie06.wav"/><Relationship Id="rId30" Type="http://schemas.openxmlformats.org/officeDocument/2006/relationships/audio" Target="../media/bserie06.wav"/><Relationship Id="rId3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audio" Target="../media/EXPLODE.WAV"/><Relationship Id="rId6" Type="http://schemas.openxmlformats.org/officeDocument/2006/relationships/audio" Target="../media/highchime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audio" Target="../media/children%20wow.wav"/><Relationship Id="rId10" Type="http://schemas.openxmlformats.org/officeDocument/2006/relationships/audio" Target="../media/highchime.wav"/><Relationship Id="rId11" Type="http://schemas.openxmlformats.org/officeDocument/2006/relationships/audio" Target="../media/zapbig0g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zapbig0g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zapbig0g.wav"/><Relationship Id="rId19" Type="http://schemas.openxmlformats.org/officeDocument/2006/relationships/audio" Target="../media/CHIMES.WAV"/><Relationship Id="rId20" Type="http://schemas.openxmlformats.org/officeDocument/2006/relationships/audio" Target="../media/children%20wow.wav"/><Relationship Id="rId2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audio" Target="../media/jetflyby.wav"/><Relationship Id="rId8" Type="http://schemas.openxmlformats.org/officeDocument/2006/relationships/audio" Target="../media/shiphorn.wav"/><Relationship Id="rId9" Type="http://schemas.openxmlformats.org/officeDocument/2006/relationships/audio" Target="../media/bserie06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bserie06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bserie06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ldren%20wow.wav"/><Relationship Id="rId2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8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9.wmf"/><Relationship Id="rId16" Type="http://schemas.openxmlformats.org/officeDocument/2006/relationships/audio" Target="../media/childrenlaugh.wav"/><Relationship Id="rId17" Type="http://schemas.openxmlformats.org/officeDocument/2006/relationships/audio" Target="../media/lzipup01.wav"/><Relationship Id="rId18" Type="http://schemas.openxmlformats.org/officeDocument/2006/relationships/audio" Target="../media/DRIVEBY.WAV"/><Relationship Id="rId19" Type="http://schemas.openxmlformats.org/officeDocument/2006/relationships/audio" Target="../media/DRIVEBY.WAV"/><Relationship Id="rId20" Type="http://schemas.openxmlformats.org/officeDocument/2006/relationships/audio" Target="../media/doorbl07.wav"/><Relationship Id="rId21" Type="http://schemas.openxmlformats.org/officeDocument/2006/relationships/audio" Target="../media/zapbig0g.wav"/><Relationship Id="rId22" Type="http://schemas.openxmlformats.org/officeDocument/2006/relationships/audio" Target="../media/fastsnaps.wav"/><Relationship Id="rId23" Type="http://schemas.openxmlformats.org/officeDocument/2006/relationships/audio" Target="../media/fastsnaps.wav"/><Relationship Id="rId24" Type="http://schemas.openxmlformats.org/officeDocument/2006/relationships/audio" Target="../media/zipby102.wav"/><Relationship Id="rId25" Type="http://schemas.openxmlformats.org/officeDocument/2006/relationships/audio" Target="../media/zipby102.wav"/><Relationship Id="rId26" Type="http://schemas.openxmlformats.org/officeDocument/2006/relationships/audio" Target="../media/peopleooo.wav"/><Relationship Id="rId27" Type="http://schemas.openxmlformats.org/officeDocument/2006/relationships/audio" Target="../media/peopleooo.wav"/><Relationship Id="rId2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audio" Target="../media/WHOOSH.WAV"/><Relationship Id="rId8" Type="http://schemas.openxmlformats.org/officeDocument/2006/relationships/audio" Target="../media/caralarmoff.wav"/><Relationship Id="rId9" Type="http://schemas.openxmlformats.org/officeDocument/2006/relationships/audio" Target="../media/jetflyby.wav"/><Relationship Id="rId10" Type="http://schemas.openxmlformats.org/officeDocument/2006/relationships/audio" Target="../media/shiphorn.wav"/><Relationship Id="rId11" Type="http://schemas.openxmlformats.org/officeDocument/2006/relationships/audio" Target="../media/zapbig0g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zapbig0g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zapbig0g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ldren%20wow.wav"/><Relationship Id="rId2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bserie06.wav"/><Relationship Id="rId17" Type="http://schemas.openxmlformats.org/officeDocument/2006/relationships/audio" Target="../media/zapbig0g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zapbig0g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zapbig0g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ldren%20wow.wav"/><Relationship Id="rId2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highchime.wav"/><Relationship Id="rId17" Type="http://schemas.openxmlformats.org/officeDocument/2006/relationships/audio" Target="../media/GLAS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GLAS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GLASS.WAV"/><Relationship Id="rId25" Type="http://schemas.openxmlformats.org/officeDocument/2006/relationships/audio" Target="../media/CHIMES.WAV"/><Relationship Id="rId26" Type="http://schemas.openxmlformats.org/officeDocument/2006/relationships/audio" Target="../media/children%20wow.wav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audio" Target="../media/caralarmoff.wav"/><Relationship Id="rId14" Type="http://schemas.openxmlformats.org/officeDocument/2006/relationships/audio" Target="../media/jetflyby2.wav"/><Relationship Id="rId15" Type="http://schemas.openxmlformats.org/officeDocument/2006/relationships/audio" Target="../media/oldcarhorn.wav"/><Relationship Id="rId16" Type="http://schemas.openxmlformats.org/officeDocument/2006/relationships/audio" Target="../media/fastsnaps.wav"/><Relationship Id="rId17" Type="http://schemas.openxmlformats.org/officeDocument/2006/relationships/audio" Target="../media/oldcarhorn.wav"/><Relationship Id="rId18" Type="http://schemas.openxmlformats.org/officeDocument/2006/relationships/audio" Target="../media/oldcarhorn.wav"/><Relationship Id="rId19" Type="http://schemas.openxmlformats.org/officeDocument/2006/relationships/audio" Target="../media/zipby102.wav"/><Relationship Id="rId20" Type="http://schemas.openxmlformats.org/officeDocument/2006/relationships/audio" Target="../media/zipby102.wav"/><Relationship Id="rId21" Type="http://schemas.openxmlformats.org/officeDocument/2006/relationships/audio" Target="../media/zipby102.wav"/><Relationship Id="rId22" Type="http://schemas.openxmlformats.org/officeDocument/2006/relationships/audio" Target="../media/oldcarhorn.wav"/><Relationship Id="rId23" Type="http://schemas.openxmlformats.org/officeDocument/2006/relationships/audio" Target="../media/zipby102.wav"/><Relationship Id="rId24" Type="http://schemas.openxmlformats.org/officeDocument/2006/relationships/audio" Target="../media/zipby102.wav"/><Relationship Id="rId25" Type="http://schemas.openxmlformats.org/officeDocument/2006/relationships/audio" Target="../media/oldcarhorn.wav"/><Relationship Id="rId26" Type="http://schemas.openxmlformats.org/officeDocument/2006/relationships/audio" Target="../media/zipby102.wav"/><Relationship Id="rId2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doorbl07.wav"/><Relationship Id="rId13" Type="http://schemas.openxmlformats.org/officeDocument/2006/relationships/audio" Target="../media/zapbig0g.wav"/><Relationship Id="rId14" Type="http://schemas.openxmlformats.org/officeDocument/2006/relationships/audio" Target="../media/fastsnaps.wav"/><Relationship Id="rId15" Type="http://schemas.openxmlformats.org/officeDocument/2006/relationships/audio" Target="../media/fastsnaps.wav"/><Relationship Id="rId16" Type="http://schemas.openxmlformats.org/officeDocument/2006/relationships/audio" Target="../media/zipby102.wav"/><Relationship Id="rId17" Type="http://schemas.openxmlformats.org/officeDocument/2006/relationships/audio" Target="../media/zipby102.wav"/><Relationship Id="rId18" Type="http://schemas.openxmlformats.org/officeDocument/2006/relationships/audio" Target="../media/peopleooo.wav"/><Relationship Id="rId19" Type="http://schemas.openxmlformats.org/officeDocument/2006/relationships/audio" Target="../media/peopleooo.wav"/><Relationship Id="rId2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doorbl07.wav"/><Relationship Id="rId13" Type="http://schemas.openxmlformats.org/officeDocument/2006/relationships/audio" Target="../media/zapbig0g.wav"/><Relationship Id="rId14" Type="http://schemas.openxmlformats.org/officeDocument/2006/relationships/audio" Target="../media/fastsnaps.wav"/><Relationship Id="rId15" Type="http://schemas.openxmlformats.org/officeDocument/2006/relationships/audio" Target="../media/fastsnaps.wav"/><Relationship Id="rId16" Type="http://schemas.openxmlformats.org/officeDocument/2006/relationships/audio" Target="../media/zipby102.wav"/><Relationship Id="rId17" Type="http://schemas.openxmlformats.org/officeDocument/2006/relationships/audio" Target="../media/zipby102.wav"/><Relationship Id="rId18" Type="http://schemas.openxmlformats.org/officeDocument/2006/relationships/audio" Target="../media/peopleooo.wav"/><Relationship Id="rId19" Type="http://schemas.openxmlformats.org/officeDocument/2006/relationships/audio" Target="../media/peopleooo.wav"/><Relationship Id="rId2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doorbl07.wav"/><Relationship Id="rId13" Type="http://schemas.openxmlformats.org/officeDocument/2006/relationships/audio" Target="../media/zapbig0g.wav"/><Relationship Id="rId14" Type="http://schemas.openxmlformats.org/officeDocument/2006/relationships/audio" Target="../media/fastsnaps.wav"/><Relationship Id="rId15" Type="http://schemas.openxmlformats.org/officeDocument/2006/relationships/audio" Target="../media/fastsnaps.wav"/><Relationship Id="rId16" Type="http://schemas.openxmlformats.org/officeDocument/2006/relationships/audio" Target="../media/zipby102.wav"/><Relationship Id="rId17" Type="http://schemas.openxmlformats.org/officeDocument/2006/relationships/audio" Target="../media/zipby102.wav"/><Relationship Id="rId18" Type="http://schemas.openxmlformats.org/officeDocument/2006/relationships/audio" Target="../media/peopleooo.wav"/><Relationship Id="rId19" Type="http://schemas.openxmlformats.org/officeDocument/2006/relationships/audio" Target="../media/peopleooo.wav"/><Relationship Id="rId2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audio" Target="../media/hzipup01.wav"/><Relationship Id="rId8" Type="http://schemas.openxmlformats.org/officeDocument/2006/relationships/audio" Target="../media/zipby102.wav"/><Relationship Id="rId9" Type="http://schemas.openxmlformats.org/officeDocument/2006/relationships/audio" Target="../media/jetflyby2.wav"/><Relationship Id="rId10" Type="http://schemas.openxmlformats.org/officeDocument/2006/relationships/audio" Target="../media/bbeeps04.wav"/><Relationship Id="rId11" Type="http://schemas.openxmlformats.org/officeDocument/2006/relationships/audio" Target="../media/fastcar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audio" Target="../media/caralarmoff.wav"/><Relationship Id="rId12" Type="http://schemas.openxmlformats.org/officeDocument/2006/relationships/audio" Target="../media/jetflyby2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audio" Target="../media/zipby102.wav"/><Relationship Id="rId16" Type="http://schemas.openxmlformats.org/officeDocument/2006/relationships/audio" Target="../media/zipby102.wav"/><Relationship Id="rId17" Type="http://schemas.openxmlformats.org/officeDocument/2006/relationships/audio" Target="../media/zipby102.wav"/><Relationship Id="rId18" Type="http://schemas.openxmlformats.org/officeDocument/2006/relationships/audio" Target="../media/bserie06.wav"/><Relationship Id="rId19" Type="http://schemas.openxmlformats.org/officeDocument/2006/relationships/audio" Target="../media/zipby102.wav"/><Relationship Id="rId20" Type="http://schemas.openxmlformats.org/officeDocument/2006/relationships/audio" Target="../media/zipby102.wav"/><Relationship Id="rId21" Type="http://schemas.openxmlformats.org/officeDocument/2006/relationships/audio" Target="../media/zipby102.wav"/><Relationship Id="rId22" Type="http://schemas.openxmlformats.org/officeDocument/2006/relationships/audio" Target="../media/bserie06.wav"/><Relationship Id="rId23" Type="http://schemas.openxmlformats.org/officeDocument/2006/relationships/audio" Target="../media/zipby102.wav"/><Relationship Id="rId24" Type="http://schemas.openxmlformats.org/officeDocument/2006/relationships/audio" Target="../media/zipby102.wav"/><Relationship Id="rId25" Type="http://schemas.openxmlformats.org/officeDocument/2006/relationships/audio" Target="../media/bserie06.wav"/><Relationship Id="rId26" Type="http://schemas.openxmlformats.org/officeDocument/2006/relationships/audio" Target="../media/zipby102.wav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ralarmoff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highchime.wav"/><Relationship Id="rId17" Type="http://schemas.openxmlformats.org/officeDocument/2006/relationships/audio" Target="../media/hzipup01.wav"/><Relationship Id="rId18" Type="http://schemas.openxmlformats.org/officeDocument/2006/relationships/audio" Target="../media/hzipup01.wav"/><Relationship Id="rId19" Type="http://schemas.openxmlformats.org/officeDocument/2006/relationships/audio" Target="../media/bbeeps04.wav"/><Relationship Id="rId20" Type="http://schemas.openxmlformats.org/officeDocument/2006/relationships/audio" Target="../media/partyhorn.wav"/><Relationship Id="rId21" Type="http://schemas.openxmlformats.org/officeDocument/2006/relationships/audio" Target="../media/partyhorn.wav"/><Relationship Id="rId22" Type="http://schemas.openxmlformats.org/officeDocument/2006/relationships/audio" Target="../media/partyhorn.wav"/><Relationship Id="rId23" Type="http://schemas.openxmlformats.org/officeDocument/2006/relationships/audio" Target="../media/byipee04.wav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highchime.wav"/><Relationship Id="rId17" Type="http://schemas.openxmlformats.org/officeDocument/2006/relationships/audio" Target="../media/highchime.wav"/><Relationship Id="rId18" Type="http://schemas.openxmlformats.org/officeDocument/2006/relationships/audio" Target="../media/oldcarhorn.wav"/><Relationship Id="rId19" Type="http://schemas.openxmlformats.org/officeDocument/2006/relationships/audio" Target="../media/oldcarhorn.wav"/><Relationship Id="rId20" Type="http://schemas.openxmlformats.org/officeDocument/2006/relationships/audio" Target="../media/zipby102.wav"/><Relationship Id="rId21" Type="http://schemas.openxmlformats.org/officeDocument/2006/relationships/audio" Target="../media/zipby102.wav"/><Relationship Id="rId22" Type="http://schemas.openxmlformats.org/officeDocument/2006/relationships/audio" Target="../media/zipby102.wav"/><Relationship Id="rId23" Type="http://schemas.openxmlformats.org/officeDocument/2006/relationships/audio" Target="../media/oldcarhorn.wav"/><Relationship Id="rId24" Type="http://schemas.openxmlformats.org/officeDocument/2006/relationships/audio" Target="../media/zipby102.wav"/><Relationship Id="rId25" Type="http://schemas.openxmlformats.org/officeDocument/2006/relationships/audio" Target="../media/zipby102.wav"/><Relationship Id="rId26" Type="http://schemas.openxmlformats.org/officeDocument/2006/relationships/audio" Target="../media/oldcarhorn.wav"/><Relationship Id="rId27" Type="http://schemas.openxmlformats.org/officeDocument/2006/relationships/audio" Target="../media/zipby102.wav"/><Relationship Id="rId2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zipup01.wav"/><Relationship Id="rId10" Type="http://schemas.openxmlformats.org/officeDocument/2006/relationships/audio" Target="../media/hzipup01.wav"/><Relationship Id="rId11" Type="http://schemas.openxmlformats.org/officeDocument/2006/relationships/audio" Target="../media/bbeeps04.wav"/><Relationship Id="rId12" Type="http://schemas.openxmlformats.org/officeDocument/2006/relationships/audio" Target="../media/partyhorn.wav"/><Relationship Id="rId13" Type="http://schemas.openxmlformats.org/officeDocument/2006/relationships/audio" Target="../media/partyhorn.wav"/><Relationship Id="rId14" Type="http://schemas.openxmlformats.org/officeDocument/2006/relationships/audio" Target="../media/partyhorn.wav"/><Relationship Id="rId15" Type="http://schemas.openxmlformats.org/officeDocument/2006/relationships/audio" Target="../media/byipee04.wav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zipby102.wav"/><Relationship Id="rId19" Type="http://schemas.openxmlformats.org/officeDocument/2006/relationships/audio" Target="../media/zipby102.wav"/><Relationship Id="rId20" Type="http://schemas.openxmlformats.org/officeDocument/2006/relationships/audio" Target="../media/zipby102.wav"/><Relationship Id="rId21" Type="http://schemas.openxmlformats.org/officeDocument/2006/relationships/audio" Target="../media/bserie06.wav"/><Relationship Id="rId22" Type="http://schemas.openxmlformats.org/officeDocument/2006/relationships/audio" Target="../media/zipby102.wav"/><Relationship Id="rId23" Type="http://schemas.openxmlformats.org/officeDocument/2006/relationships/audio" Target="../media/zipby102.wav"/><Relationship Id="rId24" Type="http://schemas.openxmlformats.org/officeDocument/2006/relationships/audio" Target="../media/zipby102.wav"/><Relationship Id="rId25" Type="http://schemas.openxmlformats.org/officeDocument/2006/relationships/audio" Target="../media/bserie06.wav"/><Relationship Id="rId26" Type="http://schemas.openxmlformats.org/officeDocument/2006/relationships/audio" Target="../media/zipby102.wav"/><Relationship Id="rId27" Type="http://schemas.openxmlformats.org/officeDocument/2006/relationships/audio" Target="../media/zipby102.wav"/><Relationship Id="rId28" Type="http://schemas.openxmlformats.org/officeDocument/2006/relationships/audio" Target="../media/bserie06.wav"/><Relationship Id="rId29" Type="http://schemas.openxmlformats.org/officeDocument/2006/relationships/audio" Target="../media/byipee04.wav"/><Relationship Id="rId3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highchime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zipby102.wav"/><Relationship Id="rId20" Type="http://schemas.openxmlformats.org/officeDocument/2006/relationships/audio" Target="../media/zipby102.wav"/><Relationship Id="rId21" Type="http://schemas.openxmlformats.org/officeDocument/2006/relationships/audio" Target="../media/zipby102.wav"/><Relationship Id="rId22" Type="http://schemas.openxmlformats.org/officeDocument/2006/relationships/audio" Target="../media/bserie06.wav"/><Relationship Id="rId23" Type="http://schemas.openxmlformats.org/officeDocument/2006/relationships/audio" Target="../media/zipby102.wav"/><Relationship Id="rId24" Type="http://schemas.openxmlformats.org/officeDocument/2006/relationships/audio" Target="../media/zipby102.wav"/><Relationship Id="rId25" Type="http://schemas.openxmlformats.org/officeDocument/2006/relationships/audio" Target="../media/zipby102.wav"/><Relationship Id="rId26" Type="http://schemas.openxmlformats.org/officeDocument/2006/relationships/audio" Target="../media/bserie06.wav"/><Relationship Id="rId27" Type="http://schemas.openxmlformats.org/officeDocument/2006/relationships/audio" Target="../media/zipby102.wav"/><Relationship Id="rId28" Type="http://schemas.openxmlformats.org/officeDocument/2006/relationships/audio" Target="../media/zipby102.wav"/><Relationship Id="rId29" Type="http://schemas.openxmlformats.org/officeDocument/2006/relationships/audio" Target="../media/bserie06.wav"/><Relationship Id="rId30" Type="http://schemas.openxmlformats.org/officeDocument/2006/relationships/audio" Target="../media/byipee04.wav"/><Relationship Id="rId3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7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olume: Prisms and Cylin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57200" y="1676160"/>
            <a:ext cx="3048120" cy="2867760"/>
            <a:chOff x="457200" y="1676160"/>
            <a:chExt cx="3048120" cy="2867760"/>
          </a:xfrm>
        </p:grpSpPr>
        <p:sp>
          <p:nvSpPr>
            <p:cNvPr id="44" name=""/>
            <p:cNvSpPr/>
            <p:nvPr/>
          </p:nvSpPr>
          <p:spPr>
            <a:xfrm>
              <a:off x="457200" y="396252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rism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990720" y="1676160"/>
              <a:ext cx="1828800" cy="2210040"/>
              <a:chOff x="990720" y="1676160"/>
              <a:chExt cx="1828800" cy="2210040"/>
            </a:xfrm>
          </p:grpSpPr>
          <p:sp>
            <p:nvSpPr>
              <p:cNvPr id="46" name=""/>
              <p:cNvSpPr/>
              <p:nvPr/>
            </p:nvSpPr>
            <p:spPr>
              <a:xfrm>
                <a:off x="2362320" y="1676520"/>
                <a:ext cx="457200" cy="1904760"/>
              </a:xfrm>
              <a:custGeom>
                <a:avLst/>
                <a:gdLst/>
                <a:ahLst/>
                <a:rect l="l" t="t" r="r" b="b"/>
                <a:pathLst>
                  <a:path w="288" h="1200">
                    <a:moveTo>
                      <a:pt x="0" y="0"/>
                    </a:moveTo>
                    <a:lnTo>
                      <a:pt x="288" y="192"/>
                    </a:lnTo>
                    <a:lnTo>
                      <a:pt x="288" y="1200"/>
                    </a:lnTo>
                    <a:lnTo>
                      <a:pt x="0" y="10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90720" y="3276720"/>
                <a:ext cx="1828800" cy="609480"/>
              </a:xfrm>
              <a:prstGeom prst="hexagon">
                <a:avLst>
                  <a:gd name="adj" fmla="val 75015"/>
                  <a:gd name="vf" fmla="val 115470"/>
                </a:avLst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990720" y="1676520"/>
                <a:ext cx="1828800" cy="609480"/>
              </a:xfrm>
              <a:prstGeom prst="hexagon">
                <a:avLst>
                  <a:gd name="adj" fmla="val 75015"/>
                  <a:gd name="vf" fmla="val 115470"/>
                </a:avLst>
              </a:pr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H="1" rot="10800000">
                <a:off x="990720" y="1676160"/>
                <a:ext cx="457200" cy="1904760"/>
              </a:xfrm>
              <a:custGeom>
                <a:avLst/>
                <a:gdLst/>
                <a:ahLst/>
                <a:rect l="l" t="t" r="r" b="b"/>
                <a:pathLst>
                  <a:path w="288" h="1200">
                    <a:moveTo>
                      <a:pt x="0" y="0"/>
                    </a:moveTo>
                    <a:lnTo>
                      <a:pt x="288" y="192"/>
                    </a:lnTo>
                    <a:lnTo>
                      <a:pt x="288" y="1200"/>
                    </a:lnTo>
                    <a:lnTo>
                      <a:pt x="0" y="10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47920" y="1676520"/>
                <a:ext cx="914400" cy="16002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90720" y="1981080"/>
                <a:ext cx="457200" cy="1905120"/>
              </a:xfrm>
              <a:custGeom>
                <a:avLst/>
                <a:gdLst/>
                <a:ahLst/>
                <a:rect l="l" t="t" r="r" b="b"/>
                <a:pathLst>
                  <a:path w="288" h="1200">
                    <a:moveTo>
                      <a:pt x="0" y="0"/>
                    </a:moveTo>
                    <a:lnTo>
                      <a:pt x="288" y="192"/>
                    </a:lnTo>
                    <a:lnTo>
                      <a:pt x="288" y="1200"/>
                    </a:lnTo>
                    <a:lnTo>
                      <a:pt x="0" y="10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447920" y="2286000"/>
                <a:ext cx="914400" cy="16002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" name=""/>
          <p:cNvSpPr/>
          <p:nvPr/>
        </p:nvSpPr>
        <p:spPr>
          <a:xfrm>
            <a:off x="3505320" y="1676520"/>
            <a:ext cx="4647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Volume of a Prism =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990720" y="2286000"/>
            <a:ext cx="5715000" cy="1600200"/>
            <a:chOff x="990720" y="2286000"/>
            <a:chExt cx="5715000" cy="1600200"/>
          </a:xfrm>
        </p:grpSpPr>
        <p:sp>
          <p:nvSpPr>
            <p:cNvPr id="55" name=""/>
            <p:cNvSpPr/>
            <p:nvPr/>
          </p:nvSpPr>
          <p:spPr>
            <a:xfrm>
              <a:off x="990720" y="3276720"/>
              <a:ext cx="1828800" cy="609480"/>
            </a:xfrm>
            <a:custGeom>
              <a:avLst/>
              <a:gdLst/>
              <a:ahLst/>
              <a:rect l="l" t="t" r="r" b="b"/>
              <a:pathLst>
                <a:path w="1152" h="384">
                  <a:moveTo>
                    <a:pt x="0" y="192"/>
                  </a:moveTo>
                  <a:lnTo>
                    <a:pt x="288" y="0"/>
                  </a:lnTo>
                  <a:lnTo>
                    <a:pt x="864" y="0"/>
                  </a:lnTo>
                  <a:lnTo>
                    <a:pt x="1152" y="192"/>
                  </a:lnTo>
                  <a:lnTo>
                    <a:pt x="864" y="384"/>
                  </a:lnTo>
                  <a:lnTo>
                    <a:pt x="288" y="384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76720" y="2286000"/>
              <a:ext cx="34290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6600"/>
                  </a:solidFill>
                  <a:latin typeface="Times New Roman"/>
                </a:rPr>
                <a:t>Area of the Base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7" name=""/>
          <p:cNvGraphicFramePr/>
          <p:nvPr/>
        </p:nvGraphicFramePr>
        <p:xfrm>
          <a:off x="6400800" y="2286000"/>
          <a:ext cx="60948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2286000"/>
                    <a:ext cx="60948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2819520" y="1980720"/>
            <a:ext cx="5638680" cy="1600200"/>
            <a:chOff x="2819520" y="1980720"/>
            <a:chExt cx="5638680" cy="1600200"/>
          </a:xfrm>
        </p:grpSpPr>
        <p:sp>
          <p:nvSpPr>
            <p:cNvPr id="60" name=""/>
            <p:cNvSpPr/>
            <p:nvPr/>
          </p:nvSpPr>
          <p:spPr>
            <a:xfrm>
              <a:off x="6553080" y="2286000"/>
              <a:ext cx="19051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3333cc"/>
                  </a:solidFill>
                  <a:latin typeface="Times New Roman"/>
                </a:rPr>
                <a:t>    </a:t>
              </a:r>
              <a:r>
                <a:rPr b="1" lang="en-US" sz="3400" spc="-1" strike="noStrike">
                  <a:solidFill>
                    <a:srgbClr val="3333cc"/>
                  </a:solidFill>
                  <a:latin typeface="Times New Roman"/>
                </a:rPr>
                <a:t>Height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2819520" y="1980720"/>
              <a:ext cx="0" cy="1600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19520" y="2514600"/>
              <a:ext cx="380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ionroar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ionroar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0  10 – 7 #1 – 7, 8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prism or cylinder to the nearest cubic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1960" y="1749600"/>
            <a:ext cx="59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98920" y="3247920"/>
            <a:ext cx="942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1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00000" y="1960560"/>
            <a:ext cx="1857600" cy="3033720"/>
          </a:xfrm>
          <a:prstGeom prst="can">
            <a:avLst>
              <a:gd name="adj" fmla="val 25000"/>
            </a:avLst>
          </a:prstGeom>
          <a:solidFill>
            <a:srgbClr val="cc99ff">
              <a:alpha val="4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43200" y="2322360"/>
            <a:ext cx="912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785960" y="1913040"/>
            <a:ext cx="110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9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379760" y="1614600"/>
          <a:ext cx="2764080" cy="87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79760" y="1614600"/>
                    <a:ext cx="276408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3459240" y="2376360"/>
          <a:ext cx="5263920" cy="115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59240" y="2376360"/>
                    <a:ext cx="526392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4913280" y="26049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513480" y="26049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37320" y="2604960"/>
            <a:ext cx="911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403440" y="3443400"/>
          <a:ext cx="5319720" cy="99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03440" y="3443400"/>
                    <a:ext cx="531972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4836960" y="35193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437160" y="35193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21480" y="35193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902040" y="4281480"/>
          <a:ext cx="4322880" cy="995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02040" y="4281480"/>
                    <a:ext cx="432288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5370480" y="435780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78800" y="4357800"/>
            <a:ext cx="1360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701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3846600" y="5348160"/>
          <a:ext cx="1218960" cy="655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46600" y="5348160"/>
                    <a:ext cx="121896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5065560" y="5272200"/>
            <a:ext cx="3124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5,341 in</a:t>
            </a:r>
            <a:r>
              <a:rPr b="1" lang="en-US" sz="3600" spc="-1" strike="noStrike" baseline="6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4397400"/>
            <a:ext cx="1814400" cy="5810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5500800" y="476280"/>
            <a:ext cx="3643200" cy="36432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0  10 – 7 #1 – 7, 8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719280"/>
            <a:ext cx="624204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7.  Wood for a fireplace is often sold by the cord. A cord is 8 ft by 4 ft by 4 ft. How many cubic feet are in a cord of wood?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276120" y="2498760"/>
            <a:ext cx="4884840" cy="358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065560" y="4048200"/>
                <a:ext cx="37958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ℓ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229440" y="4915080"/>
                <a:ext cx="29145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6615000" y="4957920"/>
            <a:ext cx="532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62800" y="4929120"/>
            <a:ext cx="533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391600" y="4943520"/>
            <a:ext cx="457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5738760"/>
            <a:ext cx="28018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33cc"/>
                </a:solidFill>
                <a:latin typeface="Times New Roman"/>
              </a:rPr>
              <a:t>= 128  ft</a:t>
            </a:r>
            <a:r>
              <a:rPr b="1" lang="en-US" sz="46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5137200" y="4991040"/>
                <a:ext cx="143496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609480" y="1600200"/>
            <a:ext cx="7925040" cy="2971800"/>
            <a:chOff x="609480" y="1600200"/>
            <a:chExt cx="7925040" cy="2971800"/>
          </a:xfrm>
        </p:grpSpPr>
        <p:grpSp>
          <p:nvGrpSpPr>
            <p:cNvPr id="297" name=""/>
            <p:cNvGrpSpPr/>
            <p:nvPr/>
          </p:nvGrpSpPr>
          <p:grpSpPr>
            <a:xfrm>
              <a:off x="609480" y="1676520"/>
              <a:ext cx="2361960" cy="2819160"/>
              <a:chOff x="609480" y="1676520"/>
              <a:chExt cx="2361960" cy="2819160"/>
            </a:xfrm>
          </p:grpSpPr>
          <p:sp>
            <p:nvSpPr>
              <p:cNvPr id="298" name=""/>
              <p:cNvSpPr/>
              <p:nvPr/>
            </p:nvSpPr>
            <p:spPr>
              <a:xfrm>
                <a:off x="609480" y="3733920"/>
                <a:ext cx="2361960" cy="761760"/>
              </a:xfrm>
              <a:custGeom>
                <a:avLst/>
                <a:gdLst/>
                <a:ahLst/>
                <a:rect l="l" t="t" r="r" b="b"/>
                <a:pathLst>
                  <a:path w="1488" h="624">
                    <a:moveTo>
                      <a:pt x="0" y="624"/>
                    </a:moveTo>
                    <a:lnTo>
                      <a:pt x="624" y="0"/>
                    </a:lnTo>
                    <a:lnTo>
                      <a:pt x="1488" y="0"/>
                    </a:lnTo>
                    <a:lnTo>
                      <a:pt x="864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cc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9480" y="1676520"/>
                <a:ext cx="1371600" cy="2819160"/>
              </a:xfrm>
              <a:custGeom>
                <a:avLst/>
                <a:gdLst/>
                <a:ahLst/>
                <a:rect l="l" t="t" r="r" b="b"/>
                <a:pathLst>
                  <a:path w="912" h="1440">
                    <a:moveTo>
                      <a:pt x="0" y="1440"/>
                    </a:moveTo>
                    <a:lnTo>
                      <a:pt x="912" y="1440"/>
                    </a:lnTo>
                    <a:lnTo>
                      <a:pt x="672" y="0"/>
                    </a:lnTo>
                    <a:lnTo>
                      <a:pt x="0" y="1440"/>
                    </a:lnTo>
                    <a:close/>
                  </a:path>
                </a:pathLst>
              </a:cu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599840" y="1676520"/>
                <a:ext cx="1371600" cy="2057400"/>
              </a:xfrm>
              <a:custGeom>
                <a:avLst/>
                <a:gdLst/>
                <a:ahLst/>
                <a:rect l="l" t="t" r="r" b="b"/>
                <a:pathLst>
                  <a:path w="864" h="1296">
                    <a:moveTo>
                      <a:pt x="0" y="1296"/>
                    </a:moveTo>
                    <a:lnTo>
                      <a:pt x="864" y="1296"/>
                    </a:lnTo>
                    <a:lnTo>
                      <a:pt x="0" y="0"/>
                    </a:lnTo>
                    <a:lnTo>
                      <a:pt x="0" y="1296"/>
                    </a:lnTo>
                    <a:close/>
                  </a:path>
                </a:pathLst>
              </a:cu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6324480" y="1600200"/>
              <a:ext cx="2210040" cy="2971800"/>
              <a:chOff x="6324480" y="1600200"/>
              <a:chExt cx="2210040" cy="2971800"/>
            </a:xfrm>
          </p:grpSpPr>
          <p:sp>
            <p:nvSpPr>
              <p:cNvPr id="302" name=""/>
              <p:cNvSpPr/>
              <p:nvPr/>
            </p:nvSpPr>
            <p:spPr>
              <a:xfrm>
                <a:off x="6324480" y="1600200"/>
                <a:ext cx="2210040" cy="2514600"/>
              </a:xfrm>
              <a:prstGeom prst="triangle">
                <a:avLst>
                  <a:gd name="adj" fmla="val 50000"/>
                </a:avLst>
              </a:prstGeom>
              <a:solidFill>
                <a:srgbClr val="cc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324480" y="3657600"/>
                <a:ext cx="2210040" cy="914400"/>
              </a:xfrm>
              <a:prstGeom prst="ellipse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" name=""/>
          <p:cNvGrpSpPr/>
          <p:nvPr/>
        </p:nvGrpSpPr>
        <p:grpSpPr>
          <a:xfrm>
            <a:off x="609480" y="2057400"/>
            <a:ext cx="7925040" cy="2514600"/>
            <a:chOff x="609480" y="2057400"/>
            <a:chExt cx="7925040" cy="2514600"/>
          </a:xfrm>
        </p:grpSpPr>
        <p:graphicFrame>
          <p:nvGraphicFramePr>
            <p:cNvPr id="305" name=""/>
            <p:cNvGraphicFramePr/>
            <p:nvPr/>
          </p:nvGraphicFramePr>
          <p:xfrm>
            <a:off x="2514600" y="2057400"/>
            <a:ext cx="2803680" cy="1109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057400"/>
                      <a:ext cx="2803680" cy="110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7" name=""/>
            <p:cNvSpPr/>
            <p:nvPr/>
          </p:nvSpPr>
          <p:spPr>
            <a:xfrm>
              <a:off x="609480" y="3733920"/>
              <a:ext cx="2362320" cy="761760"/>
            </a:xfrm>
            <a:custGeom>
              <a:avLst/>
              <a:gdLst/>
              <a:ahLst/>
              <a:rect l="l" t="t" r="r" b="b"/>
              <a:pathLst>
                <a:path w="1488" h="480">
                  <a:moveTo>
                    <a:pt x="0" y="480"/>
                  </a:moveTo>
                  <a:lnTo>
                    <a:pt x="624" y="0"/>
                  </a:lnTo>
                  <a:lnTo>
                    <a:pt x="1488" y="0"/>
                  </a:lnTo>
                  <a:lnTo>
                    <a:pt x="864" y="48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324480" y="3657600"/>
              <a:ext cx="2210040" cy="9144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9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olume: Pyramids, Cones and Sphe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893240" y="1645560"/>
            <a:ext cx="537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Volume of a Pyramid or Cone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600200" y="1638360"/>
            <a:ext cx="6858000" cy="2400120"/>
            <a:chOff x="1600200" y="1638360"/>
            <a:chExt cx="6858000" cy="2400120"/>
          </a:xfrm>
        </p:grpSpPr>
        <p:sp>
          <p:nvSpPr>
            <p:cNvPr id="313" name=""/>
            <p:cNvSpPr/>
            <p:nvPr/>
          </p:nvSpPr>
          <p:spPr>
            <a:xfrm>
              <a:off x="1600200" y="3657600"/>
              <a:ext cx="304920" cy="380880"/>
            </a:xfrm>
            <a:prstGeom prst="rect">
              <a:avLst/>
            </a:prstGeom>
            <a:noFill/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4" name=""/>
            <p:cNvGraphicFramePr/>
            <p:nvPr/>
          </p:nvGraphicFramePr>
          <p:xfrm>
            <a:off x="5257800" y="2286000"/>
            <a:ext cx="685800" cy="590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57800" y="2286000"/>
                      <a:ext cx="685800" cy="5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6" name=""/>
            <p:cNvSpPr/>
            <p:nvPr/>
          </p:nvSpPr>
          <p:spPr>
            <a:xfrm>
              <a:off x="1600200" y="1752480"/>
              <a:ext cx="0" cy="2286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76520" y="4038480"/>
              <a:ext cx="30456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29680" y="1638360"/>
              <a:ext cx="1440" cy="2362320"/>
            </a:xfrm>
            <a:custGeom>
              <a:avLst/>
              <a:gdLst/>
              <a:ahLst/>
              <a:rect l="l" t="t" r="r" b="b"/>
              <a:pathLst>
                <a:path w="1" h="1488">
                  <a:moveTo>
                    <a:pt x="0" y="0"/>
                  </a:moveTo>
                  <a:lnTo>
                    <a:pt x="0" y="1488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67480" y="3657600"/>
              <a:ext cx="228600" cy="3049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67480" y="3962520"/>
              <a:ext cx="9907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1800" y="4494960"/>
            <a:ext cx="366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Volume of a Pyrami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85800" y="4952880"/>
          <a:ext cx="433440" cy="12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4952880"/>
                    <a:ext cx="4334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1066680" y="5181480"/>
          <a:ext cx="1020960" cy="83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5181480"/>
                    <a:ext cx="102096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1905120" y="5181480"/>
          <a:ext cx="598320" cy="779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5181480"/>
                    <a:ext cx="598320" cy="7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5791680" y="4647600"/>
            <a:ext cx="309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Volume of a Co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400800" y="5181480"/>
          <a:ext cx="433440" cy="121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00800" y="5181480"/>
                    <a:ext cx="4334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7772400" y="5334120"/>
          <a:ext cx="598320" cy="779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772400" y="5334120"/>
                    <a:ext cx="5983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"/>
          <p:cNvGrpSpPr/>
          <p:nvPr/>
        </p:nvGrpSpPr>
        <p:grpSpPr>
          <a:xfrm>
            <a:off x="6781680" y="3809160"/>
            <a:ext cx="1320840" cy="2329560"/>
            <a:chOff x="6781680" y="3809160"/>
            <a:chExt cx="1320840" cy="2329560"/>
          </a:xfrm>
        </p:grpSpPr>
        <p:graphicFrame>
          <p:nvGraphicFramePr>
            <p:cNvPr id="334" name=""/>
            <p:cNvGraphicFramePr/>
            <p:nvPr/>
          </p:nvGraphicFramePr>
          <p:xfrm>
            <a:off x="6781680" y="5257800"/>
            <a:ext cx="1219320" cy="880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3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781680" y="5257800"/>
                      <a:ext cx="121932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6" name=""/>
            <p:cNvSpPr/>
            <p:nvPr/>
          </p:nvSpPr>
          <p:spPr>
            <a:xfrm>
              <a:off x="7773840" y="3809160"/>
              <a:ext cx="328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9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olume: Pyramids, Cones and Sphe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219320" y="2514600"/>
            <a:ext cx="3276360" cy="3276720"/>
            <a:chOff x="1219320" y="2514600"/>
            <a:chExt cx="3276360" cy="3276720"/>
          </a:xfrm>
        </p:grpSpPr>
        <p:sp>
          <p:nvSpPr>
            <p:cNvPr id="340" name=""/>
            <p:cNvSpPr/>
            <p:nvPr/>
          </p:nvSpPr>
          <p:spPr>
            <a:xfrm>
              <a:off x="1219320" y="2514600"/>
              <a:ext cx="3276360" cy="3276720"/>
            </a:xfrm>
            <a:prstGeom prst="ellipse">
              <a:avLst/>
            </a:prstGeom>
            <a:solidFill>
              <a:srgbClr val="9999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19320" y="3809880"/>
              <a:ext cx="3276360" cy="762120"/>
            </a:xfrm>
            <a:prstGeom prst="ellipse">
              <a:avLst/>
            </a:prstGeom>
            <a:solidFill>
              <a:srgbClr val="9999ff">
                <a:alpha val="50000"/>
              </a:srgbClr>
            </a:solidFill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819520" y="4191120"/>
              <a:ext cx="167616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77880" y="3687120"/>
              <a:ext cx="328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885920" y="2361600"/>
            <a:ext cx="338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Volume of a Sp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5622840" y="2895480"/>
          <a:ext cx="46692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22840" y="2895480"/>
                    <a:ext cx="4669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6019920" y="2971800"/>
          <a:ext cx="1218960" cy="88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2971800"/>
                    <a:ext cx="121896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9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olume: Pyramids, Cones and Sphe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685800" y="1523880"/>
            <a:ext cx="3048120" cy="3048120"/>
            <a:chOff x="685800" y="1523880"/>
            <a:chExt cx="3048120" cy="3048120"/>
          </a:xfrm>
        </p:grpSpPr>
        <p:sp>
          <p:nvSpPr>
            <p:cNvPr id="352" name=""/>
            <p:cNvSpPr/>
            <p:nvPr/>
          </p:nvSpPr>
          <p:spPr>
            <a:xfrm>
              <a:off x="685800" y="1523880"/>
              <a:ext cx="3048120" cy="2590920"/>
            </a:xfrm>
            <a:prstGeom prst="triangle">
              <a:avLst>
                <a:gd name="adj" fmla="val 50000"/>
              </a:avLst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5800" y="3733920"/>
              <a:ext cx="3048120" cy="838080"/>
            </a:xfrm>
            <a:prstGeom prst="ellipse">
              <a:avLst/>
            </a:prstGeom>
            <a:solidFill>
              <a:srgbClr val="3399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210040" y="4114800"/>
              <a:ext cx="152388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10040" y="1600200"/>
              <a:ext cx="0" cy="251460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445120" y="3657240"/>
              <a:ext cx="851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cc"/>
                  </a:solidFill>
                  <a:latin typeface="Times New Roman"/>
                </a:rPr>
                <a:t>2 c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34080" y="2742840"/>
              <a:ext cx="851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5 c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925560" y="1850760"/>
              <a:ext cx="511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.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3622680" y="2514600"/>
                <a:ext cx="531828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60" name=""/>
          <p:cNvGrpSpPr/>
          <p:nvPr/>
        </p:nvGrpSpPr>
        <p:grpSpPr>
          <a:xfrm>
            <a:off x="3962520" y="1523880"/>
            <a:ext cx="3112920" cy="1219320"/>
            <a:chOff x="3962520" y="1523880"/>
            <a:chExt cx="3112920" cy="1219320"/>
          </a:xfrm>
        </p:grpSpPr>
        <p:grpSp>
          <p:nvGrpSpPr>
            <p:cNvPr id="361" name=""/>
            <p:cNvGrpSpPr/>
            <p:nvPr/>
          </p:nvGrpSpPr>
          <p:grpSpPr>
            <a:xfrm>
              <a:off x="5105520" y="1523880"/>
              <a:ext cx="1969920" cy="1219320"/>
              <a:chOff x="5105520" y="1523880"/>
              <a:chExt cx="1969920" cy="1219320"/>
            </a:xfrm>
          </p:grpSpPr>
          <p:graphicFrame>
            <p:nvGraphicFramePr>
              <p:cNvPr id="362" name=""/>
              <p:cNvGraphicFramePr/>
              <p:nvPr/>
            </p:nvGraphicFramePr>
            <p:xfrm>
              <a:off x="5105520" y="1523880"/>
              <a:ext cx="433440" cy="1219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6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105520" y="1523880"/>
                        <a:ext cx="433440" cy="1219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64" name=""/>
              <p:cNvGraphicFramePr/>
              <p:nvPr/>
            </p:nvGraphicFramePr>
            <p:xfrm>
              <a:off x="6477120" y="1676520"/>
              <a:ext cx="598320" cy="779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6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477120" y="1676520"/>
                        <a:ext cx="598320" cy="779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66" name=""/>
              <p:cNvGraphicFramePr/>
              <p:nvPr/>
            </p:nvGraphicFramePr>
            <p:xfrm>
              <a:off x="5486400" y="1600200"/>
              <a:ext cx="1219320" cy="8809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6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486400" y="1600200"/>
                        <a:ext cx="1219320" cy="88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68" name=""/>
            <p:cNvGraphicFramePr/>
            <p:nvPr/>
          </p:nvGraphicFramePr>
          <p:xfrm>
            <a:off x="3962520" y="1828800"/>
            <a:ext cx="1157040" cy="658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6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962520" y="1828800"/>
                      <a:ext cx="1157040" cy="6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70" name=""/>
          <p:cNvSpPr/>
          <p:nvPr/>
        </p:nvSpPr>
        <p:spPr>
          <a:xfrm>
            <a:off x="5410440" y="2971080"/>
            <a:ext cx="102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9080" y="297108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078400" y="297108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3809880" y="4114800"/>
                <a:ext cx="414360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>
            <a:off x="5562720" y="4494960"/>
            <a:ext cx="102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011000" y="4494960"/>
            <a:ext cx="66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2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533520" y="5276880"/>
                <a:ext cx="296676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2210040" y="5714280"/>
            <a:ext cx="102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62.8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92360" y="5688000"/>
            <a:ext cx="3289320" cy="8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cc"/>
                </a:solidFill>
                <a:latin typeface="Times New Roman"/>
              </a:rPr>
              <a:t>= 20.9 cm</a:t>
            </a:r>
            <a:r>
              <a:rPr b="1" lang="en-US" sz="4400" spc="-1" strike="noStrike" baseline="60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4038480" y="4114800"/>
                <a:ext cx="383724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3809880" y="2514600"/>
                <a:ext cx="470376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9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olume: Pyramids, Cones and Sphe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12840" y="297108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06800" y="297108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620840" y="2971080"/>
            <a:ext cx="66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68000" y="4494960"/>
            <a:ext cx="66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6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935040" y="4494960"/>
            <a:ext cx="66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667600" y="5714280"/>
            <a:ext cx="66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6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733920" y="5702040"/>
            <a:ext cx="3289320" cy="8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cc"/>
                </a:solidFill>
                <a:latin typeface="Times New Roman"/>
              </a:rPr>
              <a:t>= 256 m</a:t>
            </a:r>
            <a:r>
              <a:rPr b="1" lang="en-US" sz="4400" spc="-1" strike="noStrike" baseline="60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47840" y="1981080"/>
            <a:ext cx="2523960" cy="2645640"/>
            <a:chOff x="447840" y="1981080"/>
            <a:chExt cx="2523960" cy="2645640"/>
          </a:xfrm>
        </p:grpSpPr>
        <p:sp>
          <p:nvSpPr>
            <p:cNvPr id="391" name=""/>
            <p:cNvSpPr/>
            <p:nvPr/>
          </p:nvSpPr>
          <p:spPr>
            <a:xfrm>
              <a:off x="609480" y="3581280"/>
              <a:ext cx="7621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1371600" y="3962160"/>
              <a:ext cx="9144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609480" y="3047760"/>
              <a:ext cx="9144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523880" y="3048120"/>
              <a:ext cx="7621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9480" y="3048120"/>
              <a:ext cx="1676520" cy="1447560"/>
            </a:xfrm>
            <a:custGeom>
              <a:avLst/>
              <a:gdLst/>
              <a:ahLst/>
              <a:rect l="l" t="t" r="r" b="b"/>
              <a:pathLst>
                <a:path w="1056" h="912">
                  <a:moveTo>
                    <a:pt x="0" y="336"/>
                  </a:moveTo>
                  <a:lnTo>
                    <a:pt x="480" y="912"/>
                  </a:lnTo>
                  <a:lnTo>
                    <a:pt x="1056" y="576"/>
                  </a:lnTo>
                  <a:lnTo>
                    <a:pt x="576" y="0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cccc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09480" y="1981080"/>
              <a:ext cx="838440" cy="2514600"/>
            </a:xfrm>
            <a:custGeom>
              <a:avLst/>
              <a:gdLst/>
              <a:ahLst/>
              <a:rect l="l" t="t" r="r" b="b"/>
              <a:pathLst>
                <a:path w="528" h="1584">
                  <a:moveTo>
                    <a:pt x="0" y="1008"/>
                  </a:moveTo>
                  <a:lnTo>
                    <a:pt x="480" y="1584"/>
                  </a:lnTo>
                  <a:lnTo>
                    <a:pt x="528" y="0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71600" y="1981080"/>
              <a:ext cx="914400" cy="2514600"/>
            </a:xfrm>
            <a:custGeom>
              <a:avLst/>
              <a:gdLst/>
              <a:ahLst/>
              <a:rect l="l" t="t" r="r" b="b"/>
              <a:pathLst>
                <a:path w="576" h="1584">
                  <a:moveTo>
                    <a:pt x="0" y="1584"/>
                  </a:moveTo>
                  <a:lnTo>
                    <a:pt x="576" y="1248"/>
                  </a:lnTo>
                  <a:lnTo>
                    <a:pt x="48" y="0"/>
                  </a:lnTo>
                  <a:lnTo>
                    <a:pt x="0" y="1584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447920" y="1981080"/>
              <a:ext cx="838080" cy="1981440"/>
            </a:xfrm>
            <a:custGeom>
              <a:avLst/>
              <a:gdLst/>
              <a:ahLst/>
              <a:rect l="l" t="t" r="r" b="b"/>
              <a:pathLst>
                <a:path w="528" h="1248">
                  <a:moveTo>
                    <a:pt x="528" y="1248"/>
                  </a:moveTo>
                  <a:lnTo>
                    <a:pt x="48" y="672"/>
                  </a:lnTo>
                  <a:lnTo>
                    <a:pt x="0" y="0"/>
                  </a:lnTo>
                  <a:lnTo>
                    <a:pt x="528" y="1248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47920" y="1981080"/>
              <a:ext cx="0" cy="1752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447920" y="3505320"/>
              <a:ext cx="1522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600200" y="350532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7840" y="4136760"/>
              <a:ext cx="847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8 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752480" y="4114440"/>
              <a:ext cx="847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8 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81080" y="236196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2 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5" name=""/>
            <p:cNvCxnSpPr/>
            <p:nvPr/>
          </p:nvCxnSpPr>
          <p:spPr>
            <a:xfrm flipV="1" rot="10800000">
              <a:off x="1523160" y="2589840"/>
              <a:ext cx="457920" cy="34668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406" name=""/>
            <p:cNvSpPr/>
            <p:nvPr/>
          </p:nvSpPr>
          <p:spPr>
            <a:xfrm>
              <a:off x="661680" y="2079360"/>
              <a:ext cx="429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4038480" y="1447920"/>
            <a:ext cx="2884680" cy="1218960"/>
            <a:chOff x="4038480" y="1447920"/>
            <a:chExt cx="2884680" cy="1218960"/>
          </a:xfrm>
        </p:grpSpPr>
        <p:graphicFrame>
          <p:nvGraphicFramePr>
            <p:cNvPr id="408" name=""/>
            <p:cNvGraphicFramePr/>
            <p:nvPr/>
          </p:nvGraphicFramePr>
          <p:xfrm>
            <a:off x="4038480" y="1447920"/>
            <a:ext cx="1492200" cy="1218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38480" y="1447920"/>
                      <a:ext cx="1492200" cy="121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0" name=""/>
            <p:cNvGraphicFramePr/>
            <p:nvPr/>
          </p:nvGraphicFramePr>
          <p:xfrm>
            <a:off x="5486400" y="1600200"/>
            <a:ext cx="1020600" cy="839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86400" y="1600200"/>
                      <a:ext cx="1020600" cy="83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2" name=""/>
            <p:cNvGraphicFramePr/>
            <p:nvPr/>
          </p:nvGraphicFramePr>
          <p:xfrm>
            <a:off x="6324480" y="1600200"/>
            <a:ext cx="598680" cy="779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1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24480" y="1600200"/>
                      <a:ext cx="598680" cy="77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14" name=""/>
          <p:cNvSpPr/>
          <p:nvPr/>
        </p:nvSpPr>
        <p:spPr>
          <a:xfrm>
            <a:off x="1601280" y="571428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260280" y="5634000"/>
                <a:ext cx="342756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0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9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olume: Pyramids, Cones and Sphe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304920" y="1371600"/>
            <a:ext cx="7786440" cy="2543040"/>
            <a:chOff x="304920" y="1371600"/>
            <a:chExt cx="7786440" cy="2543040"/>
          </a:xfrm>
        </p:grpSpPr>
        <p:pic>
          <p:nvPicPr>
            <p:cNvPr id="419" name="" descr=""/>
            <p:cNvPicPr/>
            <p:nvPr/>
          </p:nvPicPr>
          <p:blipFill>
            <a:blip r:embed="rId1"/>
            <a:stretch/>
          </p:blipFill>
          <p:spPr>
            <a:xfrm>
              <a:off x="6019920" y="1447920"/>
              <a:ext cx="2071440" cy="24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304920" y="1371600"/>
              <a:ext cx="571500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3. You build a snowman with spheres of snow. How much snow do you need to make the bottom sphere?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5717880" y="1185120"/>
            <a:ext cx="2585520" cy="2624760"/>
            <a:chOff x="5717880" y="1185120"/>
            <a:chExt cx="2585520" cy="2624760"/>
          </a:xfrm>
        </p:grpSpPr>
        <p:sp>
          <p:nvSpPr>
            <p:cNvPr id="422" name=""/>
            <p:cNvSpPr/>
            <p:nvPr/>
          </p:nvSpPr>
          <p:spPr>
            <a:xfrm>
              <a:off x="6400800" y="2514600"/>
              <a:ext cx="1295280" cy="129528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8100000">
              <a:off x="6096240" y="1563480"/>
              <a:ext cx="1828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7053120" y="2513160"/>
            <a:ext cx="1800" cy="1296720"/>
          </a:xfrm>
          <a:custGeom>
            <a:avLst/>
            <a:gdLst/>
            <a:ahLst/>
            <a:rect l="l" t="t" r="r" b="b"/>
            <a:pathLst>
              <a:path w="1" h="817">
                <a:moveTo>
                  <a:pt x="0" y="0"/>
                </a:moveTo>
                <a:lnTo>
                  <a:pt x="0" y="8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086600" y="2971440"/>
            <a:ext cx="1716480" cy="642240"/>
            <a:chOff x="7086600" y="2971440"/>
            <a:chExt cx="1716480" cy="642240"/>
          </a:xfrm>
        </p:grpSpPr>
        <p:sp>
          <p:nvSpPr>
            <p:cNvPr id="426" name=""/>
            <p:cNvSpPr/>
            <p:nvPr/>
          </p:nvSpPr>
          <p:spPr>
            <a:xfrm>
              <a:off x="8154360" y="3123720"/>
              <a:ext cx="648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4 f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7" name=""/>
            <p:cNvCxnSpPr/>
            <p:nvPr/>
          </p:nvCxnSpPr>
          <p:spPr>
            <a:xfrm flipH="1" rot="16200000">
              <a:off x="7409520" y="2648160"/>
              <a:ext cx="454680" cy="1100880"/>
            </a:xfrm>
            <a:prstGeom prst="curvedConnector2">
              <a:avLst/>
            </a:prstGeom>
            <a:ln w="38160">
              <a:solidFill>
                <a:srgbClr val="663300"/>
              </a:solidFill>
              <a:miter/>
              <a:tailEnd len="med" type="triangle" w="med"/>
            </a:ln>
          </p:spPr>
        </p:cxnSp>
      </p:grpSp>
      <p:grpSp>
        <p:nvGrpSpPr>
          <p:cNvPr id="428" name=""/>
          <p:cNvGrpSpPr/>
          <p:nvPr/>
        </p:nvGrpSpPr>
        <p:grpSpPr>
          <a:xfrm>
            <a:off x="2803680" y="2895480"/>
            <a:ext cx="1616040" cy="1219320"/>
            <a:chOff x="2803680" y="2895480"/>
            <a:chExt cx="1616040" cy="1219320"/>
          </a:xfrm>
        </p:grpSpPr>
        <p:graphicFrame>
          <p:nvGraphicFramePr>
            <p:cNvPr id="429" name=""/>
            <p:cNvGraphicFramePr/>
            <p:nvPr/>
          </p:nvGraphicFramePr>
          <p:xfrm>
            <a:off x="2803680" y="2895480"/>
            <a:ext cx="466560" cy="1219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803680" y="2895480"/>
                      <a:ext cx="466560" cy="121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1" name=""/>
            <p:cNvGraphicFramePr/>
            <p:nvPr/>
          </p:nvGraphicFramePr>
          <p:xfrm>
            <a:off x="3200400" y="2971800"/>
            <a:ext cx="1219320" cy="880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3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00400" y="2971800"/>
                      <a:ext cx="121932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1984320" y="3733920"/>
                <a:ext cx="292104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434" name=""/>
          <p:cNvGraphicFramePr/>
          <p:nvPr/>
        </p:nvGraphicFramePr>
        <p:xfrm>
          <a:off x="2590920" y="4114800"/>
          <a:ext cx="1218960" cy="658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90920" y="4114800"/>
                    <a:ext cx="121896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3962520" y="4114800"/>
          <a:ext cx="547560" cy="65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62520" y="4114800"/>
                    <a:ext cx="54756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952880" y="3657600"/>
                <a:ext cx="3494160" cy="17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39" name=""/>
          <p:cNvGraphicFramePr/>
          <p:nvPr/>
        </p:nvGraphicFramePr>
        <p:xfrm>
          <a:off x="1998720" y="5145120"/>
          <a:ext cx="2543040" cy="1712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98720" y="5145120"/>
                    <a:ext cx="254304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4586400" y="5638680"/>
          <a:ext cx="1766880" cy="658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586400" y="5638680"/>
                    <a:ext cx="1766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6477120" y="5486400"/>
          <a:ext cx="880920" cy="831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477120" y="5486400"/>
                    <a:ext cx="88092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ldren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345960" y="5481720"/>
                <a:ext cx="342756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9  10 – 9 #1 – 6, 8 – 15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71928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figure, to the nearest cubic uni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4124160" y="3962520"/>
                <a:ext cx="383724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3895560" y="2362320"/>
                <a:ext cx="470376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0" name=""/>
          <p:cNvSpPr/>
          <p:nvPr/>
        </p:nvSpPr>
        <p:spPr>
          <a:xfrm>
            <a:off x="5798520" y="281880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792480" y="281880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827480" y="281880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75000" y="434268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020720" y="4342680"/>
            <a:ext cx="66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7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753280" y="5562000"/>
            <a:ext cx="66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7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19600" y="5549760"/>
            <a:ext cx="3289320" cy="8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cc"/>
                </a:solidFill>
                <a:latin typeface="Times New Roman"/>
              </a:rPr>
              <a:t>= 216 in</a:t>
            </a:r>
            <a:r>
              <a:rPr b="1" lang="en-US" sz="4400" spc="-1" strike="noStrike" baseline="60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533520" y="1828800"/>
            <a:ext cx="2523960" cy="2645640"/>
            <a:chOff x="533520" y="1828800"/>
            <a:chExt cx="2523960" cy="2645640"/>
          </a:xfrm>
        </p:grpSpPr>
        <p:sp>
          <p:nvSpPr>
            <p:cNvPr id="458" name=""/>
            <p:cNvSpPr/>
            <p:nvPr/>
          </p:nvSpPr>
          <p:spPr>
            <a:xfrm>
              <a:off x="695160" y="3429000"/>
              <a:ext cx="7621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1457280" y="3809880"/>
              <a:ext cx="9144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695160" y="2895480"/>
              <a:ext cx="9144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609560" y="2895840"/>
              <a:ext cx="7621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95160" y="2895840"/>
              <a:ext cx="1676520" cy="1447560"/>
            </a:xfrm>
            <a:custGeom>
              <a:avLst/>
              <a:gdLst/>
              <a:ahLst/>
              <a:rect l="l" t="t" r="r" b="b"/>
              <a:pathLst>
                <a:path w="1056" h="912">
                  <a:moveTo>
                    <a:pt x="0" y="336"/>
                  </a:moveTo>
                  <a:lnTo>
                    <a:pt x="480" y="912"/>
                  </a:lnTo>
                  <a:lnTo>
                    <a:pt x="1056" y="576"/>
                  </a:lnTo>
                  <a:lnTo>
                    <a:pt x="576" y="0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cccc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5160" y="1828800"/>
              <a:ext cx="838440" cy="2514600"/>
            </a:xfrm>
            <a:custGeom>
              <a:avLst/>
              <a:gdLst/>
              <a:ahLst/>
              <a:rect l="l" t="t" r="r" b="b"/>
              <a:pathLst>
                <a:path w="528" h="1584">
                  <a:moveTo>
                    <a:pt x="0" y="1008"/>
                  </a:moveTo>
                  <a:lnTo>
                    <a:pt x="480" y="1584"/>
                  </a:lnTo>
                  <a:lnTo>
                    <a:pt x="528" y="0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457280" y="1828800"/>
              <a:ext cx="914400" cy="2514600"/>
            </a:xfrm>
            <a:custGeom>
              <a:avLst/>
              <a:gdLst/>
              <a:ahLst/>
              <a:rect l="l" t="t" r="r" b="b"/>
              <a:pathLst>
                <a:path w="576" h="1584">
                  <a:moveTo>
                    <a:pt x="0" y="1584"/>
                  </a:moveTo>
                  <a:lnTo>
                    <a:pt x="576" y="1248"/>
                  </a:lnTo>
                  <a:lnTo>
                    <a:pt x="48" y="0"/>
                  </a:lnTo>
                  <a:lnTo>
                    <a:pt x="0" y="1584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33600" y="1828800"/>
              <a:ext cx="838080" cy="1981440"/>
            </a:xfrm>
            <a:custGeom>
              <a:avLst/>
              <a:gdLst/>
              <a:ahLst/>
              <a:rect l="l" t="t" r="r" b="b"/>
              <a:pathLst>
                <a:path w="528" h="1248">
                  <a:moveTo>
                    <a:pt x="528" y="1248"/>
                  </a:moveTo>
                  <a:lnTo>
                    <a:pt x="48" y="672"/>
                  </a:lnTo>
                  <a:lnTo>
                    <a:pt x="0" y="0"/>
                  </a:lnTo>
                  <a:lnTo>
                    <a:pt x="528" y="1248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33600" y="1828800"/>
              <a:ext cx="0" cy="1752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533600" y="3353040"/>
              <a:ext cx="1522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685880" y="335304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33520" y="3984480"/>
              <a:ext cx="847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9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838160" y="3962160"/>
              <a:ext cx="847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9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066760" y="220968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8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2" name=""/>
            <p:cNvCxnSpPr/>
            <p:nvPr/>
          </p:nvCxnSpPr>
          <p:spPr>
            <a:xfrm flipV="1" rot="10800000">
              <a:off x="1608840" y="2437560"/>
              <a:ext cx="457920" cy="34668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473" name=""/>
            <p:cNvSpPr/>
            <p:nvPr/>
          </p:nvSpPr>
          <p:spPr>
            <a:xfrm>
              <a:off x="747360" y="1927080"/>
              <a:ext cx="429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4124160" y="1295280"/>
            <a:ext cx="2884680" cy="1218960"/>
            <a:chOff x="4124160" y="1295280"/>
            <a:chExt cx="2884680" cy="1218960"/>
          </a:xfrm>
        </p:grpSpPr>
        <p:graphicFrame>
          <p:nvGraphicFramePr>
            <p:cNvPr id="475" name=""/>
            <p:cNvGraphicFramePr/>
            <p:nvPr/>
          </p:nvGraphicFramePr>
          <p:xfrm>
            <a:off x="4124160" y="1295280"/>
            <a:ext cx="1492200" cy="1218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24160" y="1295280"/>
                      <a:ext cx="1492200" cy="121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7" name=""/>
            <p:cNvGraphicFramePr/>
            <p:nvPr/>
          </p:nvGraphicFramePr>
          <p:xfrm>
            <a:off x="5572080" y="1447560"/>
            <a:ext cx="1020600" cy="839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72080" y="1447560"/>
                      <a:ext cx="1020600" cy="83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9" name=""/>
            <p:cNvGraphicFramePr/>
            <p:nvPr/>
          </p:nvGraphicFramePr>
          <p:xfrm>
            <a:off x="6410160" y="1447560"/>
            <a:ext cx="598680" cy="779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8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10160" y="1447560"/>
                      <a:ext cx="598680" cy="77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81" name=""/>
          <p:cNvSpPr/>
          <p:nvPr/>
        </p:nvSpPr>
        <p:spPr>
          <a:xfrm>
            <a:off x="1686960" y="556200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700"/>
                            </p:stCondLst>
                            <p:childTnLst>
                              <p:par>
                                <p:cTn id="1111" nodeType="after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11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1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1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11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0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1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2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960"/>
                            </p:stCondLst>
                            <p:childTnLst>
                              <p:par>
                                <p:cTn id="112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9  10 – 9 #1 – 6, 8 – 15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71928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figure, to the nearest cubic uni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rot="16200000">
            <a:off x="75960" y="1599840"/>
            <a:ext cx="3048120" cy="2590560"/>
          </a:xfrm>
          <a:prstGeom prst="triangle">
            <a:avLst>
              <a:gd name="adj" fmla="val 50000"/>
            </a:avLst>
          </a:prstGeom>
          <a:solidFill>
            <a:srgbClr val="3399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16200000">
            <a:off x="1434960" y="2476080"/>
            <a:ext cx="3048120" cy="83808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2997360" y="1371240"/>
            <a:ext cx="0" cy="152388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80880" y="2895480"/>
            <a:ext cx="262908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268080" y="1797840"/>
            <a:ext cx="86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 y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449000" y="2361600"/>
            <a:ext cx="86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6 y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3825720" y="2514600"/>
                <a:ext cx="531828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91" name=""/>
          <p:cNvGrpSpPr/>
          <p:nvPr/>
        </p:nvGrpSpPr>
        <p:grpSpPr>
          <a:xfrm>
            <a:off x="4165560" y="1523880"/>
            <a:ext cx="3112920" cy="1219320"/>
            <a:chOff x="4165560" y="1523880"/>
            <a:chExt cx="3112920" cy="1219320"/>
          </a:xfrm>
        </p:grpSpPr>
        <p:grpSp>
          <p:nvGrpSpPr>
            <p:cNvPr id="492" name=""/>
            <p:cNvGrpSpPr/>
            <p:nvPr/>
          </p:nvGrpSpPr>
          <p:grpSpPr>
            <a:xfrm>
              <a:off x="5308560" y="1523880"/>
              <a:ext cx="1969920" cy="1219320"/>
              <a:chOff x="5308560" y="1523880"/>
              <a:chExt cx="1969920" cy="1219320"/>
            </a:xfrm>
          </p:grpSpPr>
          <p:graphicFrame>
            <p:nvGraphicFramePr>
              <p:cNvPr id="493" name=""/>
              <p:cNvGraphicFramePr/>
              <p:nvPr/>
            </p:nvGraphicFramePr>
            <p:xfrm>
              <a:off x="5308560" y="1523880"/>
              <a:ext cx="433440" cy="1219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9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308560" y="1523880"/>
                        <a:ext cx="433440" cy="1219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95" name=""/>
              <p:cNvGraphicFramePr/>
              <p:nvPr/>
            </p:nvGraphicFramePr>
            <p:xfrm>
              <a:off x="6680160" y="1676520"/>
              <a:ext cx="598320" cy="779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9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680160" y="1676520"/>
                        <a:ext cx="598320" cy="779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97" name=""/>
              <p:cNvGraphicFramePr/>
              <p:nvPr/>
            </p:nvGraphicFramePr>
            <p:xfrm>
              <a:off x="5689440" y="1600200"/>
              <a:ext cx="1219320" cy="8809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9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689440" y="1600200"/>
                        <a:ext cx="1219320" cy="88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99" name=""/>
            <p:cNvGraphicFramePr/>
            <p:nvPr/>
          </p:nvGraphicFramePr>
          <p:xfrm>
            <a:off x="4165560" y="1828800"/>
            <a:ext cx="1157040" cy="658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0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165560" y="1828800"/>
                      <a:ext cx="1157040" cy="6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01" name=""/>
          <p:cNvSpPr/>
          <p:nvPr/>
        </p:nvSpPr>
        <p:spPr>
          <a:xfrm>
            <a:off x="5613480" y="2971080"/>
            <a:ext cx="102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062120" y="297108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281440" y="297108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4013280" y="4114800"/>
                <a:ext cx="414324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5" name=""/>
          <p:cNvSpPr/>
          <p:nvPr/>
        </p:nvSpPr>
        <p:spPr>
          <a:xfrm>
            <a:off x="5766120" y="4494960"/>
            <a:ext cx="102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4400" y="4494960"/>
            <a:ext cx="66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2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304920" y="5621400"/>
                <a:ext cx="342900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8" name=""/>
          <p:cNvSpPr/>
          <p:nvPr/>
        </p:nvSpPr>
        <p:spPr>
          <a:xfrm>
            <a:off x="2413080" y="5714280"/>
            <a:ext cx="102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695760" y="5688000"/>
            <a:ext cx="3289320" cy="8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cc"/>
                </a:solidFill>
                <a:latin typeface="Times New Roman"/>
              </a:rPr>
              <a:t>= 25 yd</a:t>
            </a:r>
            <a:r>
              <a:rPr b="1" lang="en-US" sz="4400" spc="-1" strike="noStrike" baseline="60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167652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74360" y="571428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9  10 – 9 #1 – 6, 8 – 15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71928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figure, to the nearest cubic uni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rot="10800000">
            <a:off x="685440" y="2208960"/>
            <a:ext cx="3048120" cy="2590920"/>
          </a:xfrm>
          <a:prstGeom prst="triangle">
            <a:avLst>
              <a:gd name="adj" fmla="val 50000"/>
            </a:avLst>
          </a:prstGeom>
          <a:solidFill>
            <a:srgbClr val="3399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rot="10800000">
            <a:off x="700200" y="1744200"/>
            <a:ext cx="3047760" cy="83844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698040" y="2146320"/>
            <a:ext cx="301788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2217600" y="2147400"/>
            <a:ext cx="0" cy="262908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07920" y="162324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40 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195280" y="282492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5 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3825720" y="2514600"/>
                <a:ext cx="531828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21" name=""/>
          <p:cNvGrpSpPr/>
          <p:nvPr/>
        </p:nvGrpSpPr>
        <p:grpSpPr>
          <a:xfrm>
            <a:off x="4165560" y="1523880"/>
            <a:ext cx="3112920" cy="1219320"/>
            <a:chOff x="4165560" y="1523880"/>
            <a:chExt cx="3112920" cy="1219320"/>
          </a:xfrm>
        </p:grpSpPr>
        <p:grpSp>
          <p:nvGrpSpPr>
            <p:cNvPr id="522" name=""/>
            <p:cNvGrpSpPr/>
            <p:nvPr/>
          </p:nvGrpSpPr>
          <p:grpSpPr>
            <a:xfrm>
              <a:off x="5308560" y="1523880"/>
              <a:ext cx="1969920" cy="1219320"/>
              <a:chOff x="5308560" y="1523880"/>
              <a:chExt cx="1969920" cy="1219320"/>
            </a:xfrm>
          </p:grpSpPr>
          <p:graphicFrame>
            <p:nvGraphicFramePr>
              <p:cNvPr id="523" name=""/>
              <p:cNvGraphicFramePr/>
              <p:nvPr/>
            </p:nvGraphicFramePr>
            <p:xfrm>
              <a:off x="5308560" y="1523880"/>
              <a:ext cx="433440" cy="1219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2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308560" y="1523880"/>
                        <a:ext cx="433440" cy="1219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25" name=""/>
              <p:cNvGraphicFramePr/>
              <p:nvPr/>
            </p:nvGraphicFramePr>
            <p:xfrm>
              <a:off x="6680160" y="1676520"/>
              <a:ext cx="598320" cy="779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2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680160" y="1676520"/>
                        <a:ext cx="598320" cy="779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27" name=""/>
              <p:cNvGraphicFramePr/>
              <p:nvPr/>
            </p:nvGraphicFramePr>
            <p:xfrm>
              <a:off x="5689440" y="1600200"/>
              <a:ext cx="1219320" cy="8809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52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689440" y="1600200"/>
                        <a:ext cx="1219320" cy="88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529" name=""/>
            <p:cNvGraphicFramePr/>
            <p:nvPr/>
          </p:nvGraphicFramePr>
          <p:xfrm>
            <a:off x="4165560" y="1828800"/>
            <a:ext cx="1157040" cy="658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3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165560" y="1828800"/>
                      <a:ext cx="1157040" cy="6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1" name=""/>
          <p:cNvSpPr/>
          <p:nvPr/>
        </p:nvSpPr>
        <p:spPr>
          <a:xfrm>
            <a:off x="5613480" y="2971080"/>
            <a:ext cx="102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98320" y="2971080"/>
            <a:ext cx="66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2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160480" y="2971080"/>
            <a:ext cx="66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2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4143240" y="4076640"/>
                <a:ext cx="433548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5" name=""/>
          <p:cNvSpPr/>
          <p:nvPr/>
        </p:nvSpPr>
        <p:spPr>
          <a:xfrm>
            <a:off x="5766120" y="4494960"/>
            <a:ext cx="102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920640" y="4494960"/>
            <a:ext cx="151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10,00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547560" y="5162400"/>
                <a:ext cx="3235320" cy="16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8" name=""/>
          <p:cNvSpPr/>
          <p:nvPr/>
        </p:nvSpPr>
        <p:spPr>
          <a:xfrm>
            <a:off x="2171160" y="5714280"/>
            <a:ext cx="151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31,40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11680" y="5630760"/>
            <a:ext cx="4349520" cy="8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cc"/>
                </a:solidFill>
                <a:latin typeface="Times New Roman"/>
              </a:rPr>
              <a:t>= 10,467 in</a:t>
            </a:r>
            <a:r>
              <a:rPr b="1" lang="en-US" sz="4400" spc="-1" strike="noStrike" baseline="60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04720" y="1560600"/>
            <a:ext cx="60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7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olume: Prisms and Cylin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295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volume of the following pris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04920" y="1828800"/>
            <a:ext cx="4343400" cy="3461760"/>
            <a:chOff x="304920" y="1828800"/>
            <a:chExt cx="4343400" cy="3461760"/>
          </a:xfrm>
        </p:grpSpPr>
        <p:sp>
          <p:nvSpPr>
            <p:cNvPr id="67" name=""/>
            <p:cNvSpPr/>
            <p:nvPr/>
          </p:nvSpPr>
          <p:spPr>
            <a:xfrm>
              <a:off x="1219320" y="4038480"/>
              <a:ext cx="3429000" cy="838440"/>
            </a:xfrm>
            <a:custGeom>
              <a:avLst/>
              <a:gdLst/>
              <a:ahLst/>
              <a:rect l="l" t="t" r="r" b="b"/>
              <a:pathLst>
                <a:path w="2160" h="528">
                  <a:moveTo>
                    <a:pt x="0" y="528"/>
                  </a:moveTo>
                  <a:lnTo>
                    <a:pt x="1488" y="0"/>
                  </a:lnTo>
                  <a:lnTo>
                    <a:pt x="2160" y="0"/>
                  </a:lnTo>
                  <a:lnTo>
                    <a:pt x="672" y="528"/>
                  </a:lnTo>
                  <a:lnTo>
                    <a:pt x="0" y="528"/>
                  </a:lnTo>
                  <a:close/>
                </a:path>
              </a:pathLst>
            </a:custGeom>
            <a:solidFill>
              <a:srgbClr val="00cc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19320" y="2666880"/>
              <a:ext cx="1066680" cy="2210040"/>
            </a:xfrm>
            <a:prstGeom prst="rtTriangle">
              <a:avLst/>
            </a:prstGeom>
            <a:solidFill>
              <a:srgbClr val="00ccff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81280" y="1828800"/>
              <a:ext cx="1067040" cy="2209680"/>
            </a:xfrm>
            <a:prstGeom prst="rtTriangle">
              <a:avLst/>
            </a:prstGeom>
            <a:solidFill>
              <a:srgbClr val="00ccff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19320" y="1828800"/>
              <a:ext cx="2361960" cy="3048120"/>
            </a:xfrm>
            <a:custGeom>
              <a:avLst/>
              <a:gdLst/>
              <a:ahLst/>
              <a:rect l="l" t="t" r="r" b="b"/>
              <a:pathLst>
                <a:path w="1488" h="1920">
                  <a:moveTo>
                    <a:pt x="0" y="528"/>
                  </a:moveTo>
                  <a:lnTo>
                    <a:pt x="1488" y="0"/>
                  </a:lnTo>
                  <a:lnTo>
                    <a:pt x="1488" y="1392"/>
                  </a:lnTo>
                  <a:lnTo>
                    <a:pt x="0" y="1920"/>
                  </a:lnTo>
                  <a:lnTo>
                    <a:pt x="0" y="528"/>
                  </a:lnTo>
                  <a:close/>
                </a:path>
              </a:pathLst>
            </a:custGeom>
            <a:solidFill>
              <a:srgbClr val="00ccff">
                <a:alpha val="50000"/>
              </a:srgbClr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19320" y="1828800"/>
              <a:ext cx="3429000" cy="3048120"/>
            </a:xfrm>
            <a:custGeom>
              <a:avLst/>
              <a:gdLst/>
              <a:ahLst/>
              <a:rect l="l" t="t" r="r" b="b"/>
              <a:pathLst>
                <a:path w="2160" h="1920">
                  <a:moveTo>
                    <a:pt x="0" y="528"/>
                  </a:moveTo>
                  <a:lnTo>
                    <a:pt x="672" y="1920"/>
                  </a:lnTo>
                  <a:lnTo>
                    <a:pt x="2160" y="1392"/>
                  </a:lnTo>
                  <a:lnTo>
                    <a:pt x="1488" y="0"/>
                  </a:lnTo>
                  <a:lnTo>
                    <a:pt x="0" y="528"/>
                  </a:lnTo>
                  <a:close/>
                </a:path>
              </a:pathLst>
            </a:custGeom>
            <a:solidFill>
              <a:srgbClr val="00ccff">
                <a:alpha val="50000"/>
              </a:srgbClr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480" y="1981080"/>
              <a:ext cx="76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920" y="3429000"/>
              <a:ext cx="1218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4 in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71600" y="4800600"/>
              <a:ext cx="1219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9 in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20400000">
              <a:off x="3048120" y="4343040"/>
              <a:ext cx="1218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0 in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6" name=""/>
          <p:cNvGraphicFramePr/>
          <p:nvPr/>
        </p:nvGraphicFramePr>
        <p:xfrm>
          <a:off x="5638680" y="1981080"/>
          <a:ext cx="2156040" cy="7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981080"/>
                    <a:ext cx="215604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80880" y="5181480"/>
          <a:ext cx="1922760" cy="131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5181480"/>
                    <a:ext cx="192276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5410080" y="2593800"/>
          <a:ext cx="2743200" cy="139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2593800"/>
                    <a:ext cx="274320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572000" y="3733920"/>
          <a:ext cx="4371840" cy="1390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733920"/>
                    <a:ext cx="437184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172200" y="4114800"/>
            <a:ext cx="609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934320" y="4114800"/>
            <a:ext cx="914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924680" y="4114800"/>
            <a:ext cx="914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0" y="5029200"/>
          <a:ext cx="3379680" cy="811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5029200"/>
                    <a:ext cx="337968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5715000" y="5029200"/>
            <a:ext cx="914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5029200"/>
            <a:ext cx="1066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126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495680" y="6019920"/>
          <a:ext cx="1143000" cy="617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95680" y="6019920"/>
                    <a:ext cx="114300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5715000" y="5943600"/>
            <a:ext cx="23623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1260 in</a:t>
            </a:r>
            <a:r>
              <a:rPr b="1" lang="en-US" sz="3600" spc="-1" strike="noStrike" baseline="6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9  10 – 9 #1 – 6, 8 – 15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71928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figure, to the nearest cubic uni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5589720" y="1198440"/>
            <a:ext cx="1616040" cy="1219320"/>
            <a:chOff x="5589720" y="1198440"/>
            <a:chExt cx="1616040" cy="1219320"/>
          </a:xfrm>
        </p:grpSpPr>
        <p:graphicFrame>
          <p:nvGraphicFramePr>
            <p:cNvPr id="544" name=""/>
            <p:cNvGraphicFramePr/>
            <p:nvPr/>
          </p:nvGraphicFramePr>
          <p:xfrm>
            <a:off x="5589720" y="1198440"/>
            <a:ext cx="466560" cy="1219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89720" y="1198440"/>
                      <a:ext cx="466560" cy="121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6" name=""/>
            <p:cNvGraphicFramePr/>
            <p:nvPr/>
          </p:nvGraphicFramePr>
          <p:xfrm>
            <a:off x="5986440" y="1274760"/>
            <a:ext cx="1219320" cy="880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86440" y="1274760"/>
                      <a:ext cx="121932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4770360" y="2108160"/>
                <a:ext cx="292104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549" name=""/>
          <p:cNvGraphicFramePr/>
          <p:nvPr/>
        </p:nvGraphicFramePr>
        <p:xfrm>
          <a:off x="5376960" y="2489040"/>
          <a:ext cx="1218960" cy="65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76960" y="2489040"/>
                    <a:ext cx="121896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6765840" y="2513160"/>
                <a:ext cx="471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3797280" y="3406680"/>
                <a:ext cx="414180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965320" y="5175360"/>
                <a:ext cx="2021040" cy="16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7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5253120" y="5613480"/>
                <a:ext cx="17683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2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7153200" y="5545080"/>
                <a:ext cx="8654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6" name=""/>
          <p:cNvSpPr/>
          <p:nvPr/>
        </p:nvSpPr>
        <p:spPr>
          <a:xfrm>
            <a:off x="579600" y="1309680"/>
            <a:ext cx="3276360" cy="3276720"/>
          </a:xfrm>
          <a:prstGeom prst="ellipse">
            <a:avLst/>
          </a:prstGeom>
          <a:solidFill>
            <a:srgbClr val="9999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79600" y="2604960"/>
            <a:ext cx="3276360" cy="762120"/>
          </a:xfrm>
          <a:prstGeom prst="ellipse">
            <a:avLst/>
          </a:prstGeom>
          <a:solidFill>
            <a:srgbClr val="9999ff">
              <a:alpha val="50000"/>
            </a:srgbClr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54040" y="2986200"/>
            <a:ext cx="330192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755720" y="2453400"/>
            <a:ext cx="1081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10 i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46040" y="14889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9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2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9  10 – 9 #1 – 6, 8 – 15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71928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figure, to the nearest cubic uni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5589720" y="1198440"/>
            <a:ext cx="1616040" cy="1219320"/>
            <a:chOff x="5589720" y="1198440"/>
            <a:chExt cx="1616040" cy="1219320"/>
          </a:xfrm>
        </p:grpSpPr>
        <p:graphicFrame>
          <p:nvGraphicFramePr>
            <p:cNvPr id="564" name=""/>
            <p:cNvGraphicFramePr/>
            <p:nvPr/>
          </p:nvGraphicFramePr>
          <p:xfrm>
            <a:off x="5589720" y="1198440"/>
            <a:ext cx="466560" cy="1219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89720" y="1198440"/>
                      <a:ext cx="466560" cy="121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6" name=""/>
            <p:cNvGraphicFramePr/>
            <p:nvPr/>
          </p:nvGraphicFramePr>
          <p:xfrm>
            <a:off x="5986440" y="1274760"/>
            <a:ext cx="1219320" cy="880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86440" y="1274760"/>
                      <a:ext cx="121932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4770360" y="2108160"/>
                <a:ext cx="292104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569" name=""/>
          <p:cNvGraphicFramePr/>
          <p:nvPr/>
        </p:nvGraphicFramePr>
        <p:xfrm>
          <a:off x="5376960" y="2489040"/>
          <a:ext cx="1218960" cy="65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76960" y="2489040"/>
                    <a:ext cx="121896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6829560" y="2503440"/>
                <a:ext cx="342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4159080" y="3406680"/>
                <a:ext cx="341640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2881440" y="5175360"/>
                <a:ext cx="2189160" cy="16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5592600" y="5635800"/>
                <a:ext cx="108936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6711840" y="5576760"/>
                <a:ext cx="10382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y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6" name=""/>
          <p:cNvSpPr/>
          <p:nvPr/>
        </p:nvSpPr>
        <p:spPr>
          <a:xfrm>
            <a:off x="579600" y="1309680"/>
            <a:ext cx="3276360" cy="3276720"/>
          </a:xfrm>
          <a:prstGeom prst="ellipse">
            <a:avLst/>
          </a:prstGeom>
          <a:solidFill>
            <a:srgbClr val="ffcc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79600" y="2604960"/>
            <a:ext cx="3276360" cy="762120"/>
          </a:xfrm>
          <a:prstGeom prst="ellipse">
            <a:avLst/>
          </a:prstGeom>
          <a:solidFill>
            <a:srgbClr val="ffcc99">
              <a:alpha val="50000"/>
            </a:srgbClr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54040" y="2986200"/>
            <a:ext cx="330192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15840" y="2410560"/>
            <a:ext cx="960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2 y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6040" y="14889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0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3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6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2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9  10 – 9 #1 – 6, 8 – 15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71928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figure, to the nearest cubic uni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5589720" y="1198440"/>
            <a:ext cx="1616040" cy="1219320"/>
            <a:chOff x="5589720" y="1198440"/>
            <a:chExt cx="1616040" cy="1219320"/>
          </a:xfrm>
        </p:grpSpPr>
        <p:graphicFrame>
          <p:nvGraphicFramePr>
            <p:cNvPr id="584" name=""/>
            <p:cNvGraphicFramePr/>
            <p:nvPr/>
          </p:nvGraphicFramePr>
          <p:xfrm>
            <a:off x="5589720" y="1198440"/>
            <a:ext cx="466560" cy="1219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89720" y="1198440"/>
                      <a:ext cx="466560" cy="121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6" name=""/>
            <p:cNvGraphicFramePr/>
            <p:nvPr/>
          </p:nvGraphicFramePr>
          <p:xfrm>
            <a:off x="5986440" y="1274760"/>
            <a:ext cx="1219320" cy="880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86440" y="1274760"/>
                      <a:ext cx="121932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4653000" y="2152800"/>
                <a:ext cx="3556080" cy="14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589" name=""/>
          <p:cNvGraphicFramePr/>
          <p:nvPr/>
        </p:nvGraphicFramePr>
        <p:xfrm>
          <a:off x="5229360" y="2503440"/>
          <a:ext cx="1218960" cy="65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29360" y="2503440"/>
                    <a:ext cx="121896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6558120" y="2527200"/>
                <a:ext cx="13287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3691080" y="3406680"/>
                <a:ext cx="435420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2589120" y="5175360"/>
                <a:ext cx="2568600" cy="16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433840" y="5613480"/>
                <a:ext cx="14065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6827760" y="5587920"/>
                <a:ext cx="86544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96" name=""/>
          <p:cNvSpPr/>
          <p:nvPr/>
        </p:nvSpPr>
        <p:spPr>
          <a:xfrm>
            <a:off x="579600" y="1309680"/>
            <a:ext cx="3276360" cy="3276720"/>
          </a:xfrm>
          <a:prstGeom prst="ellipse">
            <a:avLst/>
          </a:prstGeom>
          <a:solidFill>
            <a:srgbClr val="ffcc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9600" y="2604960"/>
            <a:ext cx="3276360" cy="762120"/>
          </a:xfrm>
          <a:prstGeom prst="ellipse">
            <a:avLst/>
          </a:prstGeom>
          <a:solidFill>
            <a:srgbClr val="ffcc99">
              <a:alpha val="50000"/>
            </a:srgbClr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54040" y="2986200"/>
            <a:ext cx="330192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701720" y="2410560"/>
            <a:ext cx="1189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5.5 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6040" y="14889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5" dur="indefinite" restart="never" nodeType="tmRoot">
          <p:childTnLst>
            <p:seq>
              <p:cTn id="1476" dur="indefinite" nodeType="mainSeq">
                <p:childTnLst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4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0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3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9  10 – 9 #1 – 6, 8 – 15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0  10 – 7 #1 – 7, 8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7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olume: Prisms and Cylin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1752480"/>
            <a:ext cx="3200400" cy="18288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886200"/>
            <a:ext cx="4648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Volume of a Cylinder =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669040" y="3124080"/>
            <a:ext cx="3503160" cy="1907280"/>
            <a:chOff x="2669040" y="3124080"/>
            <a:chExt cx="3503160" cy="1907280"/>
          </a:xfrm>
        </p:grpSpPr>
        <p:sp>
          <p:nvSpPr>
            <p:cNvPr id="99" name=""/>
            <p:cNvSpPr/>
            <p:nvPr/>
          </p:nvSpPr>
          <p:spPr>
            <a:xfrm>
              <a:off x="2971800" y="3124080"/>
              <a:ext cx="3200400" cy="457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69040" y="4419720"/>
              <a:ext cx="3215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6600"/>
                  </a:solidFill>
                  <a:latin typeface="Times New Roman"/>
                </a:rPr>
                <a:t>Area of the Base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1" name=""/>
          <p:cNvGraphicFramePr/>
          <p:nvPr/>
        </p:nvGraphicFramePr>
        <p:xfrm>
          <a:off x="5715000" y="4419720"/>
          <a:ext cx="60948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4419720"/>
                    <a:ext cx="60948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" name=""/>
          <p:cNvGrpSpPr/>
          <p:nvPr/>
        </p:nvGrpSpPr>
        <p:grpSpPr>
          <a:xfrm>
            <a:off x="6172200" y="1981080"/>
            <a:ext cx="1430280" cy="3050280"/>
            <a:chOff x="6172200" y="1981080"/>
            <a:chExt cx="1430280" cy="3050280"/>
          </a:xfrm>
        </p:grpSpPr>
        <p:sp>
          <p:nvSpPr>
            <p:cNvPr id="104" name=""/>
            <p:cNvSpPr/>
            <p:nvPr/>
          </p:nvSpPr>
          <p:spPr>
            <a:xfrm>
              <a:off x="6175080" y="4419720"/>
              <a:ext cx="14274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3333cc"/>
                  </a:solidFill>
                  <a:latin typeface="Times New Roman"/>
                </a:rPr>
                <a:t>Height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48520" y="2362320"/>
              <a:ext cx="609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72200" y="1981080"/>
              <a:ext cx="0" cy="1371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7" name=""/>
          <p:cNvGraphicFramePr/>
          <p:nvPr/>
        </p:nvGraphicFramePr>
        <p:xfrm>
          <a:off x="4876920" y="4876920"/>
          <a:ext cx="1218960" cy="87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4876920"/>
                    <a:ext cx="121896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867280" y="4952880"/>
          <a:ext cx="54792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952880"/>
                    <a:ext cx="54792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7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olume: Prisms and Cylin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295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volume of the following cylind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28600" y="1905120"/>
            <a:ext cx="4267080" cy="3657600"/>
            <a:chOff x="228600" y="1905120"/>
            <a:chExt cx="4267080" cy="3657600"/>
          </a:xfrm>
        </p:grpSpPr>
        <p:sp>
          <p:nvSpPr>
            <p:cNvPr id="115" name=""/>
            <p:cNvSpPr/>
            <p:nvPr/>
          </p:nvSpPr>
          <p:spPr>
            <a:xfrm>
              <a:off x="685800" y="1905120"/>
              <a:ext cx="2590920" cy="3657600"/>
            </a:xfrm>
            <a:prstGeom prst="can">
              <a:avLst>
                <a:gd name="adj" fmla="val 25000"/>
              </a:avLst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800" y="4648320"/>
              <a:ext cx="2590920" cy="9144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81080" y="5105520"/>
              <a:ext cx="129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8600" y="1981080"/>
              <a:ext cx="83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33720" y="4648320"/>
              <a:ext cx="990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5 c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00400" y="3505320"/>
              <a:ext cx="1295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1 c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1" name=""/>
          <p:cNvGraphicFramePr/>
          <p:nvPr/>
        </p:nvGraphicFramePr>
        <p:xfrm>
          <a:off x="4800600" y="1905120"/>
          <a:ext cx="2763720" cy="87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905120"/>
                    <a:ext cx="276372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879720" y="2666880"/>
          <a:ext cx="5264280" cy="115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79720" y="2666880"/>
                    <a:ext cx="526428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5334120" y="289548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34320" y="289548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01000" y="289548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824280" y="3733920"/>
          <a:ext cx="5319720" cy="99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24280" y="3733920"/>
                    <a:ext cx="531972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5257800" y="380988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0" y="380988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01000" y="380988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322880" y="4572000"/>
          <a:ext cx="4322520" cy="995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22880" y="4572000"/>
                    <a:ext cx="432252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5791320" y="464832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15200" y="464832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7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267080" y="5638680"/>
          <a:ext cx="1219320" cy="655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67080" y="5638680"/>
                    <a:ext cx="121932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5486400" y="5562720"/>
            <a:ext cx="3124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863.5 in</a:t>
            </a:r>
            <a:r>
              <a:rPr b="1" lang="en-US" sz="3600" spc="-1" strike="noStrike" baseline="6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0  10 – 7 #1 – 7, 8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prism or cylinder to the nearest cubic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514600" y="4191120"/>
                <a:ext cx="379584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ℓ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581280" y="5029200"/>
                <a:ext cx="340200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962520" y="5029200"/>
            <a:ext cx="533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5029200"/>
            <a:ext cx="533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2200" y="5029200"/>
            <a:ext cx="457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19520" y="5867280"/>
            <a:ext cx="4267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33cc"/>
                </a:solidFill>
                <a:latin typeface="Times New Roman"/>
              </a:rPr>
              <a:t>= 24  cubic unit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470320" y="5105520"/>
                <a:ext cx="14349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 flipH="1">
            <a:off x="1600200" y="1905120"/>
            <a:ext cx="4038480" cy="1981080"/>
          </a:xfrm>
          <a:prstGeom prst="cube">
            <a:avLst>
              <a:gd name="adj" fmla="val 45740"/>
            </a:avLst>
          </a:prstGeom>
          <a:solidFill>
            <a:srgbClr val="ffcc99">
              <a:alpha val="6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3352680"/>
            <a:ext cx="3124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08240" y="2496960"/>
            <a:ext cx="3124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81360" y="2184480"/>
            <a:ext cx="3124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92400" y="2481120"/>
            <a:ext cx="0" cy="107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79560" y="2184480"/>
            <a:ext cx="0" cy="10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64040" y="2816280"/>
            <a:ext cx="0" cy="10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86080" y="2809800"/>
            <a:ext cx="0" cy="107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75120" y="2817720"/>
            <a:ext cx="0" cy="107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1582560" y="2423880"/>
            <a:ext cx="928800" cy="92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2359080" y="1879560"/>
            <a:ext cx="9144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135240" y="1889280"/>
            <a:ext cx="9144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54600" y="1897200"/>
            <a:ext cx="9144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71560" y="1857240"/>
            <a:ext cx="59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700"/>
                            </p:stCondLst>
                            <p:childTnLst>
                              <p:par>
                                <p:cTn id="247" nodeType="after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2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0  10 – 7 #1 – 7, 8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prism or cylinder to the nearest cubic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03440" y="1851120"/>
            <a:ext cx="1930320" cy="609480"/>
          </a:xfrm>
          <a:prstGeom prst="triangle">
            <a:avLst>
              <a:gd name="adj" fmla="val 50000"/>
            </a:avLst>
          </a:prstGeom>
          <a:solidFill>
            <a:srgbClr val="ccffcc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843200"/>
            <a:ext cx="2859120" cy="1582560"/>
          </a:xfrm>
          <a:custGeom>
            <a:avLst/>
            <a:gdLst/>
            <a:ahLst/>
            <a:rect l="l" t="t" r="r" b="b"/>
            <a:pathLst>
              <a:path w="1801" h="997">
                <a:moveTo>
                  <a:pt x="0" y="997"/>
                </a:moveTo>
                <a:lnTo>
                  <a:pt x="1179" y="393"/>
                </a:lnTo>
                <a:lnTo>
                  <a:pt x="1801" y="0"/>
                </a:lnTo>
                <a:lnTo>
                  <a:pt x="640" y="603"/>
                </a:lnTo>
                <a:lnTo>
                  <a:pt x="0" y="997"/>
                </a:lnTo>
                <a:close/>
              </a:path>
            </a:pathLst>
          </a:custGeom>
          <a:solidFill>
            <a:srgbClr val="ccffcc">
              <a:alpha val="60000"/>
            </a:srgbClr>
          </a:solidFill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2320" y="2816280"/>
            <a:ext cx="1930680" cy="609480"/>
          </a:xfrm>
          <a:prstGeom prst="triangle">
            <a:avLst>
              <a:gd name="adj" fmla="val 50000"/>
            </a:avLst>
          </a:prstGeom>
          <a:solidFill>
            <a:srgbClr val="ccffcc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2320" y="2452680"/>
            <a:ext cx="3802320" cy="973080"/>
          </a:xfrm>
          <a:custGeom>
            <a:avLst/>
            <a:gdLst/>
            <a:ahLst/>
            <a:rect l="l" t="t" r="r" b="b"/>
            <a:pathLst>
              <a:path w="2386" h="613">
                <a:moveTo>
                  <a:pt x="0" y="613"/>
                </a:moveTo>
                <a:lnTo>
                  <a:pt x="1170" y="0"/>
                </a:lnTo>
                <a:lnTo>
                  <a:pt x="2386" y="0"/>
                </a:lnTo>
                <a:lnTo>
                  <a:pt x="1216" y="613"/>
                </a:lnTo>
                <a:lnTo>
                  <a:pt x="0" y="613"/>
                </a:lnTo>
                <a:close/>
              </a:path>
            </a:pathLst>
          </a:custGeom>
          <a:solidFill>
            <a:srgbClr val="ccffcc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11360" y="1828800"/>
            <a:ext cx="2828880" cy="1596960"/>
          </a:xfrm>
          <a:custGeom>
            <a:avLst/>
            <a:gdLst/>
            <a:ahLst/>
            <a:rect l="l" t="t" r="r" b="b"/>
            <a:pathLst>
              <a:path w="1792" h="1006">
                <a:moveTo>
                  <a:pt x="0" y="603"/>
                </a:moveTo>
                <a:lnTo>
                  <a:pt x="1180" y="0"/>
                </a:lnTo>
                <a:lnTo>
                  <a:pt x="1792" y="393"/>
                </a:lnTo>
                <a:lnTo>
                  <a:pt x="631" y="1006"/>
                </a:lnTo>
                <a:lnTo>
                  <a:pt x="0" y="603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71560" y="1857240"/>
            <a:ext cx="59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003640" y="2100240"/>
          <a:ext cx="2743200" cy="13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2100240"/>
                    <a:ext cx="274320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165560" y="3240000"/>
          <a:ext cx="4371840" cy="139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65560" y="3240000"/>
                    <a:ext cx="437184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5765760" y="3621240"/>
            <a:ext cx="609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43800" y="3592440"/>
            <a:ext cx="914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91400" y="3592440"/>
            <a:ext cx="914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165560" y="4535640"/>
          <a:ext cx="3379680" cy="81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65560" y="4535640"/>
                    <a:ext cx="337968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5410080" y="4521240"/>
            <a:ext cx="914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42120" y="4521240"/>
            <a:ext cx="1066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27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089240" y="5526000"/>
          <a:ext cx="1143000" cy="617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89240" y="5526000"/>
                    <a:ext cx="114300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5308560" y="5450040"/>
            <a:ext cx="23623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54 in</a:t>
            </a:r>
            <a:r>
              <a:rPr b="1" lang="en-US" sz="3600" spc="-1" strike="noStrike" baseline="6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2040" y="2685960"/>
            <a:ext cx="943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 c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51200" y="2708280"/>
            <a:ext cx="942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 c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51240" y="2846520"/>
            <a:ext cx="942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9 c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0  10 – 7 #1 – 7, 8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prism or cylinder to the nearest cubic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440" y="1798560"/>
            <a:ext cx="59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22360" y="3557520"/>
            <a:ext cx="110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2 c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44760" y="3230640"/>
            <a:ext cx="943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 c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13320" y="2295360"/>
            <a:ext cx="942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8 c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2600" y="1930320"/>
            <a:ext cx="3105000" cy="1668600"/>
          </a:xfrm>
          <a:prstGeom prst="cube">
            <a:avLst>
              <a:gd name="adj" fmla="val 24263"/>
            </a:avLst>
          </a:prstGeom>
          <a:solidFill>
            <a:srgbClr val="ccecff">
              <a:alpha val="6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87480" y="1930320"/>
            <a:ext cx="0" cy="127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987120" y="3192480"/>
            <a:ext cx="26701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66640" y="3192120"/>
            <a:ext cx="420840" cy="406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906640" y="3843360"/>
                <a:ext cx="37958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ℓ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973680" y="4681440"/>
                <a:ext cx="340200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4210200" y="4681440"/>
            <a:ext cx="822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21240" y="4681440"/>
            <a:ext cx="533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64240" y="4681440"/>
            <a:ext cx="457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11560" y="5519880"/>
            <a:ext cx="4267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33cc"/>
                </a:solidFill>
                <a:latin typeface="Times New Roman"/>
              </a:rPr>
              <a:t>= 480  cm</a:t>
            </a:r>
            <a:r>
              <a:rPr b="1" lang="en-US" sz="46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862360" y="4757760"/>
                <a:ext cx="14349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0  10 – 7 #1 – 7, 8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prism or cylinder to the nearest cubic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1960" y="1749600"/>
            <a:ext cx="59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7040" y="2855880"/>
            <a:ext cx="943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8 f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0040" y="1960560"/>
            <a:ext cx="1987560" cy="2249640"/>
          </a:xfrm>
          <a:prstGeom prst="can">
            <a:avLst>
              <a:gd name="adj" fmla="val 25000"/>
            </a:avLst>
          </a:prstGeom>
          <a:solidFill>
            <a:srgbClr val="cc99ff">
              <a:alpha val="4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70040" y="2235240"/>
            <a:ext cx="1987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76480" y="1839960"/>
            <a:ext cx="110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0 f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379760" y="1614600"/>
          <a:ext cx="2764080" cy="87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79760" y="1614600"/>
                    <a:ext cx="276408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3459240" y="2376360"/>
          <a:ext cx="5263920" cy="115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59240" y="2376360"/>
                    <a:ext cx="526392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913280" y="26049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13480" y="26049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82040" y="2604960"/>
            <a:ext cx="911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403440" y="3443400"/>
          <a:ext cx="5319720" cy="99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03440" y="3443400"/>
                    <a:ext cx="531972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4836960" y="35193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37160" y="35193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80160" y="35193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902040" y="4281480"/>
          <a:ext cx="4322880" cy="995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02040" y="4281480"/>
                    <a:ext cx="432288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5370480" y="435780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94360" y="435780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846600" y="5348160"/>
          <a:ext cx="1218960" cy="655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46600" y="5348160"/>
                    <a:ext cx="121896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5065560" y="5272200"/>
            <a:ext cx="3124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628 ft</a:t>
            </a:r>
            <a:r>
              <a:rPr b="1" lang="en-US" sz="3600" spc="-1" strike="noStrike" baseline="6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 rot="16200000">
            <a:off x="1170000" y="1501920"/>
            <a:ext cx="1550880" cy="3062160"/>
          </a:xfrm>
          <a:prstGeom prst="can">
            <a:avLst>
              <a:gd name="adj" fmla="val 25000"/>
            </a:avLst>
          </a:prstGeom>
          <a:solidFill>
            <a:srgbClr val="ffcc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0  10 – 7 #1 – 7, 8 – 1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prism or cylinder to the nearest cubic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1960" y="1749600"/>
            <a:ext cx="59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11080" y="2784600"/>
            <a:ext cx="943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8 c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36760" y="3740040"/>
            <a:ext cx="110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2 c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379760" y="1614600"/>
          <a:ext cx="2764080" cy="87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79760" y="1614600"/>
                    <a:ext cx="276408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3459240" y="2376360"/>
          <a:ext cx="5263920" cy="115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59240" y="2376360"/>
                    <a:ext cx="526392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4913280" y="26049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13480" y="26049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35880" y="2604960"/>
            <a:ext cx="911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403440" y="3443400"/>
          <a:ext cx="5319720" cy="99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03440" y="3443400"/>
                    <a:ext cx="531972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4836960" y="35193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37160" y="35193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493040" y="351936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902040" y="4281480"/>
          <a:ext cx="4322880" cy="995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02040" y="4281480"/>
                    <a:ext cx="432288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5370480" y="435780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94360" y="4357800"/>
            <a:ext cx="1143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9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3846600" y="5348160"/>
          <a:ext cx="1218960" cy="655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46600" y="5348160"/>
                    <a:ext cx="121896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5065560" y="5272200"/>
            <a:ext cx="3124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603 cm</a:t>
            </a:r>
            <a:r>
              <a:rPr b="1" lang="en-US" sz="3600" spc="-1" strike="noStrike" baseline="6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4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84520" y="2263680"/>
            <a:ext cx="798480" cy="15382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4080" y="2249640"/>
            <a:ext cx="0" cy="155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13:07:38Z</dcterms:created>
  <dc:creator>Don Helms</dc:creator>
  <dc:description/>
  <dc:language>en-US</dc:language>
  <cp:lastModifiedBy>damon.skelton</cp:lastModifiedBy>
  <dcterms:modified xsi:type="dcterms:W3CDTF">2006-04-27T15:26:49Z</dcterms:modified>
  <cp:revision>43</cp:revision>
  <dc:subject/>
  <dc:title>No Slide Title</dc:title>
</cp:coreProperties>
</file>